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22B-B8BE-461F-B119-E215E4F1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105-5BA5-44CA-B6B9-7CF85C2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019-0D81-449F-AEE5-37F356D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B01-C8BA-4708-9C4A-76462340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A7C8-E6EB-4222-9C8F-A7C10B45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4F9-81B4-4B56-8022-EDA76572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6D2-7251-4437-8FBA-C24B151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7C76-417B-4E0C-9DE2-4027B28F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A40B-ED7F-4A79-8CC4-D5CAEDB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FAC5-94E5-4275-8FC7-0CDC329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6C3A-1881-4BBF-9A52-1B744AC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3FF-29C0-461D-B64C-94F4BC9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B9BA-5962-4AE0-BF99-9A46488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3AA-704F-4283-8861-088C69C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A038-37BF-4098-836A-AFB3EFF1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47DD-0FC5-4C50-BAF8-629CCC85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2386-6C88-4945-82DA-4D07ED87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326-4285-4EC1-AFEC-A58789E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1B1-08B8-44CE-A623-C940D55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70B-3AC7-4805-86AD-40EFF9EF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455-E2D0-430D-ADDE-6A08A68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A7B-8D33-4A1B-8748-25EA410C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804-12A5-431E-A2A5-342FBC4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F7A-CA45-45AB-872E-097E912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1E8-1249-4A63-86EC-5D4CB60E60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F31-D271-4557-BFBF-A05BDF373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&#1076;&#1086;&#1082;&#1072;&#1079;&#1072;&#1090;&#1077;&#1083;&#1100;&#1089;&#1090;&#1074;%20&#1101;&#1074;&#1086;&#1083;&#1102;&#1094;&#1080;&#1080;%20&#1085;&#1077;%20&#1089;&#1091;&#1097;&#1077;&#1089;&#1090;&#1074;&#1091;&#1077;&#1090;.ppt" TargetMode="External"/><Relationship Id="rId2" Type="http://schemas.openxmlformats.org/officeDocument/2006/relationships/hyperlink" Target="&#1055;&#1088;&#1077;&#1079;&#1077;&#1085;&#1090;&#1072;&#1094;&#1080;&#1103;_&#1075;&#1088;&#1091;&#1087;&#1087;&#1099;.ppt" TargetMode="External"/><Relationship Id="rId3" Type="http://schemas.openxmlformats.org/officeDocument/2006/relationships/hyperlink" Target="&#1055;&#1088;&#1077;&#1079;&#1077;&#1085;&#1090;&#1072;&#1094;&#1080;&#1103;_&#1075;&#1088;&#1091;&#1087;&#1087;&#1099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solidFill>
            <a:srgbClr val="afaae4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рок - деб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06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Можно ли доказать существование эволюции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втор разработки: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авина С.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читель биологии  высшей категор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БОУ «Тюльганская средняя школа №1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юльганского района Оренбургской обла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эмблема фестиваля"/>
          <p:cNvPicPr/>
          <p:nvPr/>
        </p:nvPicPr>
        <p:blipFill>
          <a:blip r:embed="rId1"/>
          <a:stretch/>
        </p:blipFill>
        <p:spPr>
          <a:xfrm>
            <a:off x="0" y="0"/>
            <a:ext cx="1871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715160" cy="47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6600ff"/>
                </a:solidFill>
                <a:latin typeface="Arial"/>
                <a:ea typeface="Arial"/>
              </a:rPr>
              <a:t>Как вы думаете, какова цель наших дебатов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Правила ведения дебат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аждый участник команды высказывает в течение 2 минут свои аргументы в защиту тезис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аждая команда задает по два вопроса команде, отстаивающей противоположную точку зр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(время 1 минут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Отвечать начинает команда выступавшая перв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манды отвечают на вопросы 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время на ответ 4 минуты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аждая команда подводит итог (время 2 минут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тоги дебатов подводят экспер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оугольник 3">
            <a:hlinkClick r:id="rId1"/>
          </p:cNvPr>
          <p:cNvSpPr/>
          <p:nvPr/>
        </p:nvSpPr>
        <p:spPr>
          <a:xfrm>
            <a:off x="7596360" y="4941720"/>
            <a:ext cx="1357200" cy="790920"/>
          </a:xfrm>
          <a:prstGeom prst="rect">
            <a:avLst/>
          </a:prstGeom>
          <a:gradFill rotWithShape="0">
            <a:gsLst>
              <a:gs pos="0">
                <a:srgbClr val="cac4ff"/>
              </a:gs>
              <a:gs pos="100000">
                <a:srgbClr val="eeecff"/>
              </a:gs>
            </a:gsLst>
            <a:lin ang="16200000"/>
          </a:gradFill>
          <a:ln w="9360">
            <a:solidFill>
              <a:srgbClr val="bbb6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 </a:t>
            </a:r>
            <a:r>
              <a:rPr b="0" lang="ru-RU" sz="1200" spc="-1" strike="noStrike" u="sng">
                <a:solidFill>
                  <a:srgbClr val="5454c6"/>
                </a:solidFill>
                <a:uFillTx/>
                <a:latin typeface="Arial"/>
                <a:hlinkClick r:id="rId2"/>
              </a:rPr>
              <a:t>эволю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5454c6"/>
                </a:solidFill>
                <a:uFillTx/>
                <a:latin typeface="Arial"/>
                <a:hlinkClick r:id="rId3"/>
              </a:rPr>
              <a:t>не существ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личие аналогичных органов, сходство зародышей, единый план строения клеток всех царств живой природы говорит в пользу эволюционной теор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сновные положения теории Ч. Дарвина можно уместить на нескольких страницах, неисчерпаемо богатство фактического содержания одиннадцати томов, заключающих более 5 000 страниц исследований и наблюдений. В своих сочинениях Дарвин приводит длинный, критически проверенный перечень фактов. Живые организмы связаны единством происхождения. Ныне существующие формы произошли от форм прежде существующи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временные данные , которые предоставляют нам  эмбриология, сравнительная анатомия, палеонтология, цитология, биогеография, систематика подтверждают  эволюционную теори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и помогают нам убедиться в том, чт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волюция живых организмов – это реальный процесс, существующий во времени и в пространстве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06280" y="534960"/>
            <a:ext cx="8928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</cp:lastModifiedBy>
  <cp:lastPrinted>2012-01-22T21:25:48Z</cp:lastPrinted>
  <dcterms:modified xsi:type="dcterms:W3CDTF">2012-01-28T20:04:04Z</dcterms:modified>
  <cp:revision>43</cp:revision>
  <dc:subject/>
  <dc:title>PowerPoint Presentation</dc:title>
</cp:coreProperties>
</file>