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ED01-D889-4669-A50C-E517749532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2E27-F8EC-4ED0-982E-AF98356D9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7F31-38EE-4BFE-8D15-63D891007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3248-DA24-463C-B7EE-0972ADD72D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97E-33E0-4B7E-B264-122C5D461D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874-B1A2-430B-8B48-C3352E57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807-37B9-4886-B078-14EEFD3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B45-0CB6-4F8A-A4AC-4236115B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22D-0845-4984-BE01-8FC81EF3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66D1-C0F6-4661-B5FC-1CAF5A59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045F-129A-4DED-AC67-872CB59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DBC4-6967-4330-A6A9-AE8157B9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5777-019F-4D02-8B49-6E3E070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74F7-80CA-45B3-8140-23CD381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7D65-9FDA-4552-BAAE-BAEAFAD6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4E15-488F-4228-A280-1738E92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87A-86E7-46AD-822C-5CA37669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F3E44-78AB-4744-BDD7-CF78627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F97F9-BA23-41B4-B84A-C206BF6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D6F1-3547-413D-B535-64243B38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8B467-385D-453A-8F9B-A62FA57B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0ACE-B490-4439-93E5-5E85F6A8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DA919-D061-4DC8-8C34-CFB8F6F4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4C677-E341-4A46-8874-39EA93B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58B41-241E-414D-8CE2-D271062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2542F-7605-42F6-8C2A-BDE1262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C89DC-D910-4E6A-B903-0E00DBD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55A-A214-4A80-8658-A9FAA813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07DF4-54AA-4542-BE97-843044EB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31B96-B07F-47E9-94ED-FCB566C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076B2-ACE2-47B4-9670-5A691D8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9335-66EC-48A0-9D97-2BB0679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6225E-8BA0-45B0-91AC-B86BE9EB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AB5DE-0E3D-41B4-97FE-BE733354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23FE9-C2F6-4692-8054-025B3388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FAD9-B971-47DA-A4E3-5C546B83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12DF-3B70-46BA-810B-7A2B2ED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AE32-FABA-4C71-8155-77E92B9E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CD1-4E90-4F39-82EF-CC3ACCE4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C6C3-F60F-4B68-87B0-185824A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277D-C7F1-4FF4-B4C1-C5F35E87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2BA4-624D-4AD7-B5B7-A40E3D15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F54A-AEBA-4824-A683-265113F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DB7A-27DE-4492-AD3D-E84255D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38F0-EDA4-432E-8925-3ED6B80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37F5-36D2-4625-8B0A-309847C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F706-16A2-4595-930C-991E6B68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5866-BE12-42C9-993E-451D5607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02A1-54A9-44BD-87A7-2C27F0EB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AE2-DEAA-4828-A107-926F9659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11DC-B8E2-4E42-83D9-F3B1681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7211-F082-446B-8D27-6BCF26C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B5E2-C855-45E0-ADE8-22A70B6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DD5C-A882-4D87-9FA8-468648B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6120-4BCF-4BFD-A6EB-FBEEBF4C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F8ED-054B-40EC-A308-ABBD37F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20E9-4BA4-4D21-BA97-9F00760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674F-07B7-4FD6-B356-E82D8B0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C6F2-4F51-4D2A-B5E5-888D7B0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1FEA-1E06-40D3-AAB2-0509DEF3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6C9-062B-4B04-82B2-E96E8F8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4B3E-A0C2-4AF1-9E7E-4AE47A63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3D14-98D1-4739-9674-41DEB6FA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8896-A2C1-4071-89D3-1532EEE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7131-E178-41F0-A1FC-12A9BEC6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0B38-DF37-4DD0-87A3-AAC2F9E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3C2D-2E6B-476E-8A18-43666F04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6A9C-3AE7-43DE-994F-FA6A601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10F6-547B-44BE-82E6-D81CEBC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D6D7-8B9E-4FA1-9EE8-31B6BD2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D6D9D-244B-4E1D-9044-1C292D1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139-A9E3-4B9D-890A-A8B6E10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DD3B-1725-4E96-9B62-C8A326D4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31FAE-8E5B-4299-919A-E35200A1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45BAA-5405-4E4B-ABEE-C6D4E98F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0E0C-84DB-4E5B-A383-6DA36068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7B3B-67CC-474F-AD2B-B253F49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D7928-2D7E-4474-88A6-3E77A80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4A15-3DF4-4D2D-ADEE-6D7C444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6A11-D856-491F-B14E-1F878F84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1B369-B5E8-435E-9B9C-66D2DAC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6C27-76D1-42C7-A45A-EE242A4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CCE-F149-4C07-9858-D90CB26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8B79-3A43-4E4F-9E11-023FD74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25FC-E067-459A-9FCD-D81B697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1EFC-6814-47C3-BD5D-A29BECC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00AE-CA45-4C34-BE17-1B24038C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DFA7-261A-4F1E-A85D-2144734C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6EE3-CEA1-4A18-9E6A-84680ACB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ECD5-F0FF-4A91-B2C4-EE9EE1AD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6316A-8A5C-494C-85C7-504854D6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0825-8624-4DEF-8930-196EE5A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A700-95DC-4999-8A75-385403E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FF3-33A2-4132-A06B-621B9F0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DFDDF-3F93-4410-B87D-6C0B88F1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181C-1A27-4477-99D1-364B4A0C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C44D-2AB8-4000-A62C-25D11D83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ABF2-6AC8-4BC3-9E43-76717EF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D4740-7755-4B1D-AF88-65D11B6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E8032-F64D-4256-9161-8E5A5A95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69A9-56E0-45AE-83C7-664D7B0A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A3A-1EA4-4B44-9F62-A5F641149E8B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84E-1F32-4F64-80E3-ABDB4DE4931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3000-CCBA-4452-BC1C-32131505EAA5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472-5CE9-4D1C-8F7F-CBF7A0C9A12E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530-17A0-45CE-A1AE-8004CEF4893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27E-0727-4C43-91BF-BECCFB261D37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44D-2385-4916-879D-512F1F1BB690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52D-1E68-49DD-A593-C4AED7078291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5/Animalia_diversity.jpg" TargetMode="External"/><Relationship Id="rId2" Type="http://schemas.openxmlformats.org/officeDocument/2006/relationships/hyperlink" Target="http://upload.wikimedia.org/wikipedia/commons/d/d5/Animalia_diversity.jpg" TargetMode="External"/><Relationship Id="rId3" Type="http://schemas.openxmlformats.org/officeDocument/2006/relationships/hyperlink" Target="http://upload.wikimedia.org/wikipedia/commons/d/d5/Animalia_diversity.jpg" TargetMode="External"/><Relationship Id="rId4" Type="http://schemas.openxmlformats.org/officeDocument/2006/relationships/hyperlink" Target="http://www.nanonewsnet.ru/files/thumbs/2011/picture2_5.jpg&#1052;" TargetMode="External"/><Relationship Id="rId5" Type="http://schemas.openxmlformats.org/officeDocument/2006/relationships/hyperlink" Target="http://www.nanonewsnet.ru/files/thumbs/2011/picture2_5.jpg&#1052;" TargetMode="External"/><Relationship Id="rId6" Type="http://schemas.openxmlformats.org/officeDocument/2006/relationships/hyperlink" Target="http://www.nanonewsnet.ru/files/thumbs/2011/picture2_5.jpg&#1052;" TargetMode="External"/><Relationship Id="rId7" Type="http://schemas.openxmlformats.org/officeDocument/2006/relationships/hyperlink" Target="http://www.nanonewsnet.ru/files/thumbs/2011/picture2_5.jpg&#1052;" TargetMode="External"/><Relationship Id="rId8" Type="http://schemas.openxmlformats.org/officeDocument/2006/relationships/hyperlink" Target="http://elhow.ru/ucheba/estestvoznaniej/chto-ranshe-pojavilos-kurica-ili-jajco" TargetMode="External"/><Relationship Id="rId9" Type="http://schemas.openxmlformats.org/officeDocument/2006/relationships/hyperlink" Target="http://bio.fizteh.ru/student/files/biology/biolections/lection04.html" TargetMode="External"/><Relationship Id="rId10" Type="http://schemas.openxmlformats.org/officeDocument/2006/relationships/hyperlink" Target="http://bio.fizteh.ru/student/files/biology/biolections/lection04.html" TargetMode="External"/><Relationship Id="rId11" Type="http://schemas.openxmlformats.org/officeDocument/2006/relationships/hyperlink" Target="http://autorating.ru/?utm_source=Google_M&amp;utm_medium=cpc&amp;utm_campaign=Marki" TargetMode="External"/><Relationship Id="rId12" Type="http://schemas.openxmlformats.org/officeDocument/2006/relationships/hyperlink" Target="http://autorating.ru/?utm_source=Google_M&amp;utm_medium=cpc&amp;utm_campaign=Marki" TargetMode="External"/><Relationship Id="rId13" Type="http://schemas.openxmlformats.org/officeDocument/2006/relationships/hyperlink" Target="http://autorating.ru/?utm_source=Google_M&amp;utm_medium=cpc&amp;utm_campaign=Marki" TargetMode="External"/><Relationship Id="rId14" Type="http://schemas.openxmlformats.org/officeDocument/2006/relationships/hyperlink" Target="http://autorating.ru/?utm_source=Google_M&amp;utm_medium=cpc&amp;utm_campaign=Marki" TargetMode="External"/><Relationship Id="rId15" Type="http://schemas.openxmlformats.org/officeDocument/2006/relationships/hyperlink" Target="http://autorating.ru/?utm_source=Google_M&amp;utm_medium=cpc&amp;utm_campaign=Marki" TargetMode="External"/><Relationship Id="rId16" Type="http://schemas.openxmlformats.org/officeDocument/2006/relationships/hyperlink" Target="http://autorating.ru/?utm_source=Google_M&amp;utm_medium=cpc&amp;utm_campaign=Marki" TargetMode="External"/><Relationship Id="rId17" Type="http://schemas.openxmlformats.org/officeDocument/2006/relationships/hyperlink" Target="http://autorating.ru/?utm_source=Google_M&amp;utm_medium=cpc&amp;utm_campaign=Marki" TargetMode="External"/><Relationship Id="rId18" Type="http://schemas.openxmlformats.org/officeDocument/2006/relationships/hyperlink" Target="http://autorating.ru/?utm_source=Google_M&amp;utm_medium=cpc&amp;utm_campaign=Marki" TargetMode="External"/><Relationship Id="rId19" Type="http://schemas.openxmlformats.org/officeDocument/2006/relationships/hyperlink" Target="http://www.allposters.com/" TargetMode="External"/><Relationship Id="rId20" Type="http://schemas.openxmlformats.org/officeDocument/2006/relationships/hyperlink" Target="http://ru.wikipedia.org/w/index.php?title=&#1060;&#1072;&#1081;&#1083;:Darwin%27s_finches.jpeg&amp;filetimestamp=20061026165938" TargetMode="External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a5c6d023a4ea0dd5bfe14614e032ace_full[1]"/>
          <p:cNvPicPr/>
          <p:nvPr/>
        </p:nvPicPr>
        <p:blipFill>
          <a:blip r:embed="rId1"/>
          <a:stretch/>
        </p:blipFill>
        <p:spPr>
          <a:xfrm>
            <a:off x="1619280" y="1700280"/>
            <a:ext cx="6099120" cy="4016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1042920" y="501336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1"/>
          <p:cNvSpPr/>
          <p:nvPr/>
        </p:nvSpPr>
        <p:spPr>
          <a:xfrm>
            <a:off x="468360" y="4698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250920" y="620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Доказательств эволюции не суще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900000" y="573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ы: учащиеся 11 класса МБОУ «Тюльганская средняя школа №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юльган 2011-2012 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699920"/>
            <a:ext cx="461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Можно ли сомневаться в существовании конструктора, если мы видим перед собой часы, машину, самолет или хотя бы самую незначительную вещь? Хотя мы этих людей не видим и не знаем в лицо, однако вещи свидетельствуют и говорят нам об их мастере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Или быть может кто-либо уверен, что, к примеру, ручка, которой мы пишем, появилась сама?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Думаю таковых не найдется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Подобно и природа свидетельствует о своем Авторе и Мастере — о Боге Творце: «Небеса проповедуют славу Божию, и о делах рук Его вещает твердь…» (Пс. 18,2)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РИРОДА СВИДЕТЕЛЬСТВУЕТ О СВОЕМ АВТОРЕ И МАСТЕРЕ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86" name="Picture 5" descr="C:\Documents and Settings\1234\Мои документы\Мои рисунки\67f4af62a4542708c0504bcf5d5896aa.jpg"/>
          <p:cNvPicPr/>
          <p:nvPr/>
        </p:nvPicPr>
        <p:blipFill>
          <a:blip r:embed="rId1"/>
          <a:stretch/>
        </p:blipFill>
        <p:spPr>
          <a:xfrm>
            <a:off x="5148360" y="2060640"/>
            <a:ext cx="3636720" cy="1931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45080" y="1699920"/>
            <a:ext cx="424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Дж. В. Литес обратил внимание на сложность строения белков. 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Они образованы из длинных цепей, называемых аминокислотами. Способ соединения их имеет чрезвычайное значение. 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Если их соединить иначе, то они не будут поддерживать жизнь и даже могут быть ядовитыми. 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Литес подсчитал, что звенья цепи простейшего белка могли бы быть соединены миллионами различных путей. 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Для всех этих случаев невозможно совпадение в строении молекулы протеина, — а </a:t>
            </a:r>
            <a:r>
              <a:rPr b="1" i="1" lang="ru-RU" sz="1500" spc="-1" strike="noStrike">
                <a:solidFill>
                  <a:srgbClr val="534949"/>
                </a:solidFill>
                <a:latin typeface="Georgia"/>
              </a:rPr>
              <a:t>искра жизни сохраняется лишь при одном единственном способе соединения</a:t>
            </a:r>
            <a:r>
              <a:rPr b="0" i="1" lang="ru-RU" sz="1500" spc="-1" strike="noStrike">
                <a:solidFill>
                  <a:srgbClr val="534949"/>
                </a:solidFill>
                <a:latin typeface="Georgia"/>
              </a:rPr>
              <a:t>.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ИСКРА ЖИЗНИ СОХРАНЯЕТСЯ ЛИШЬ ПРИ ОДНОМ ЕДИНСТВЕННОМ СПОСОБЕ СОЕДИНЕНИЯ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4002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354560" y="1915920"/>
            <a:ext cx="46814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Трудно объяснить эволюционной теорией возникновение полного генетического кода, являющегося необходимым условием для размножения клетки.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Образование белков зависит от ДНК.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Но ДНК не может образовываться без уже существующего белка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4949"/>
                </a:solidFill>
                <a:latin typeface="Georgia"/>
              </a:rPr>
              <a:t>Возникает вопрос: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4949"/>
                </a:solidFill>
                <a:latin typeface="Georgia"/>
              </a:rPr>
              <a:t>«Что возникло сначала, белок  или ДНК ?»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391" name="Picture 1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103640" cy="30718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250920" y="1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«Что возникло сначала, белок  или ДНК 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7640" y="1628640"/>
            <a:ext cx="4319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Ученые пытаются сослаться </a:t>
            </a:r>
            <a:r>
              <a:rPr b="0" i="1" lang="en-US" sz="1900" spc="-1" strike="noStrike">
                <a:solidFill>
                  <a:srgbClr val="534949"/>
                </a:solidFill>
                <a:latin typeface="Georgia"/>
              </a:rPr>
              <a:t>  </a:t>
            </a: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на то, что целесообразный инстинкт не является разумным, но случайным проявлением: «У отдельных растений и животных, — доказывают ученые, — сначала возникли случайные небольшие изменения.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У некоторых из них они оказались подходящими для жизни в новых условиях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Эти растения и животные выживали лучше, чем другие, у которых таких выгодных изменений не было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Потом эти новые, благоприятные свойства начали передаваться от поколения к поколению».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КТО АВТОР ЦЕЛЕСООБРАЗНОГО ИНСТИНКТА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248000" cy="374328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4788000" y="5661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Изготовление пчелами с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1719000"/>
            <a:ext cx="42447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Уже давно отмечалось рождение детей одаренных до такой степени, что они в детском возрасте, ни у кого не учась, решали сложные задачи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Их назвали вундеркиндами.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Почему же дарования этих людей не закрепились и не передались по наследству другому поколению.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Ведь они полезны и необходимы. Произойди такое, — со временем отпала бы необходимость в системе образования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4949"/>
                </a:solidFill>
                <a:latin typeface="Georgia"/>
              </a:rPr>
              <a:t>Но, увы; случайные изменения, так и остались случайными; не закрепились и не переросли в инстинкт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КТО АВТОР ЦЕЛЕСООБРАЗНОГО ИНСТИНКТА?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994200" cy="374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28640"/>
            <a:ext cx="8642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Результатом мутации может быть только вариация уже имеющегося признака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Мутация предоставляет разнообразие, но никогда не производит ничего нового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Мутации могут изменить цвет или структуру волос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Но волосы всегда останутся волосам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В результате мутаций может измениться кисть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Бывают аномалии пальцев. Но кисть всегда остается кистью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Живые организмы размножаются только «по роду их»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Причина заключается в том, что генетический код не дает растению или животному отклониться слишком далеко от нормы, но не до такой степени, что одно живое существо могло бы превратиться в другое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447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МУТАЦИИ –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ОСНОВА ЛИ ОНИ ДЛЯ ЭВОЛЮЦИИ?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1640" y="1719000"/>
            <a:ext cx="4321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Геккель никогда в жизни не занимался эмбриологией,  при первом же взгляде довольно легко обнаружил сходство между эмбрионами человека и  животными,  отбросив не устраивавшие его картинки из научных монографий, он нарисовал свои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</a:rPr>
              <a:t>Ученый совет университете Иены официально признал идею Геккеля несостоятельной, а самого автора виновным в научном мошенничестве, и тот был вынужден уйти в отставку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ЭМБРИОЛОГИЧЕСКИЕ ДОКАЗАТЕЛЬСТВА МОЖНО ЛИ НА НИХ ВСЕРЬЕЗ ОПИРАТЬСЯ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13080" cy="3381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79280" y="1628280"/>
            <a:ext cx="51847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Georgia"/>
              </a:rPr>
              <a:t>Вьюрки, за которыми Дарвин наблюдал на островах Галапагос, всегда остаются вьюрками;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следовательно, он наблюдал не эволюцию, а разнообразие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Georgia"/>
              </a:rPr>
              <a:t>Молодой возраст островов является прекрасным свидетельством, что  здесь имеет место лишь отсев неблагоприятных признаков, исходно заложенных в разнообразии вида – слишком мало времени прошло для возможности «развития» какого-либо нового признака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672000" cy="30956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1"/>
          <p:cNvSpPr/>
          <p:nvPr/>
        </p:nvSpPr>
        <p:spPr>
          <a:xfrm>
            <a:off x="468360" y="1159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Сравнительно-анатомические доказательства эволю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95280" y="2133720"/>
            <a:ext cx="5184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34949"/>
                </a:solidFill>
                <a:latin typeface="Georgia"/>
              </a:rPr>
              <a:t>Существуют ли какие-нибудь ископаемые остатки птиц, клюв которых находился бы на стадии развития из челюстей пресмыкающегося?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34949"/>
                </a:solidFill>
                <a:latin typeface="Georgia"/>
              </a:rPr>
              <a:t>Есть ли какое-нибудь ископаемое доказательство развития у рыб таза земноводного, или превращения рыбьих плавников в ноги, стопы и пальцы земноводных?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724360" y="1628280"/>
            <a:ext cx="2733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algn="ctr">
              <a:lnSpc>
                <a:spcPct val="8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534949"/>
              </a:solidFill>
              <a:latin typeface="Franklin Gothic Medium"/>
            </a:endParaRPr>
          </a:p>
          <a:p>
            <a:pPr marL="41760" algn="ctr">
              <a:lnSpc>
                <a:spcPct val="8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534949"/>
                </a:solidFill>
                <a:latin typeface="Franklin Gothic Medium"/>
              </a:rPr>
              <a:t>?</a:t>
            </a:r>
            <a:endParaRPr b="0" lang="en-US" sz="16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ПАЛЕОНТОЛОГИЧЕСКИЕ ДОКАЗАТЕЛЬСТВА ЭВОЛЮЦИИ?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Cambria"/>
              </a:rPr>
              <a:t>Детальная структура пера и чешуек увеличенные в 80 раз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ЭВОЛЮЦИЯ ПЕРЬЕВ: БОЛЬШАЯ ПРОБЛЕМА ДЛЯ ДАРВИНИЗМА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2089440" cy="216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6732720" y="3429000"/>
            <a:ext cx="2016000" cy="21607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395280" y="1484280"/>
            <a:ext cx="4154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Обзор литературы по вопросу эволюции птичьих перьев показал, что, несмотря на то, что перья начинают встречаться уже в Меловом периоде, летопись окаменелостей обнаруживает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лное отсутствие свидетельств эволюции перь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Так как существует значительное морфологическое различие между перьями и чешуйками, то должно существовать большое количество функциональных переходных фор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аже размышление о “самых примитивных стадиях эволюции пера” является предположительны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95280" y="1773000"/>
            <a:ext cx="4100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3122"/>
                </a:solidFill>
                <a:latin typeface="Georgia"/>
                <a:ea typeface="Arial"/>
              </a:rPr>
              <a:t>Теория сотворения мира утверждает, что все основные типы животных и растений были созданы Творцом посредством особых процессов, которые не действуют в наше время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3122"/>
                </a:solidFill>
                <a:latin typeface="Georgia"/>
                <a:ea typeface="Arial"/>
              </a:rPr>
              <a:t>Изменения, появившиеся с тех пор, ограничены пределами, установленными внутри каждого из сотворенных родов.</a:t>
            </a:r>
            <a:br>
              <a:rPr sz="2400"/>
            </a:br>
            <a:r>
              <a:rPr b="0" i="1" lang="ru-RU" sz="1800" spc="-1" strike="noStrike">
                <a:solidFill>
                  <a:srgbClr val="693122"/>
                </a:solidFill>
                <a:latin typeface="Georgia"/>
                <a:ea typeface="Arial"/>
              </a:rPr>
              <a:t>     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47960" y="1773000"/>
            <a:ext cx="38098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34949"/>
                </a:solidFill>
                <a:latin typeface="Georgia"/>
                <a:ea typeface="Arial"/>
              </a:rPr>
              <a:t>Эволюционисты стоят на том, что особое сотворение должно быть исключено из возможного объяснения происхождения видов, так как эту теорию нельзя определить как научную.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34949"/>
                </a:solidFill>
                <a:latin typeface="Georgia"/>
                <a:ea typeface="Arial"/>
              </a:rPr>
              <a:t>Они считают, что первые живые организмы развились из не живой материи.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520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СОЗДАНЫ ЛИ МЫ ИЛИ РАЗВИВАЛИСЬ В ПРОЦЕССЕ ЭВОЛЮЦИИ?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3640" y="170028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Геологическая летопись не дает строго последовательной цепи медленно прогрессирующей эволюции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Никаких переходных форм от одной группы живых организмов  к другой не было найдено. Палеонтологическая летопись, таким образом, говорит прямо противоположное  тому, что от нее ожидалось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Ископаемого материала сегодня накопилось так много, что отсутствие переходного ряда нельзя объяснить скудностью материала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Пробелы реальны, они никогда не будут восполнены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В древнейших породах не найдена серия ископаемых, которая бы охватывала постепенные изменения от самых примитивных существ до развитых форм, но зато развитые виды появились в древнейших породах внезапно. Между видами – полное отсутствие промежуточных ископаемых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СЛОВО – ИСКОПАЕМЫМ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284720" y="1557000"/>
            <a:ext cx="4751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Эти рисунки в течение десятилетий располагают на видных местах в учебных заведениях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Благодаря силе визуального восприятия эта схема «неизгладимо запечатлелась в умах миллиардов людей во всем мире».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Но вот парадокс: о том, что эта схема ложна, было известно еще при первой ее публикации!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4949"/>
                </a:solidFill>
                <a:latin typeface="Georgia"/>
              </a:rPr>
              <a:t>По словам автора, «многие из приведенных здесь рисунков были сконструированы» из немногочисленных фрагментов, таких как «челюсть, иногда несколько зубов… и, таким образом, являются плодами научного домысла»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19" name="Picture 2" descr="C:\Documents and Settings\1234\Мои документы\Мои рисунки\429_2.jpg"/>
          <p:cNvPicPr/>
          <p:nvPr/>
        </p:nvPicPr>
        <p:blipFill>
          <a:blip r:embed="rId1"/>
          <a:stretch/>
        </p:blipFill>
        <p:spPr>
          <a:xfrm>
            <a:off x="324000" y="1719360"/>
            <a:ext cx="4032000" cy="440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АРАДОКС: О ТОМ, ЧТО ЭТА СХЕМА ЛОЖНА, БЫЛО ИЗВЕСТНО ЕЩЕ ПРИ ПЕРВОЙ ЕЕ ПУБЛИКАЦИИ! 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360"/>
            <a:ext cx="8655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Ф. Энгельс вывел математический закон биологической эволюции: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«По отношению ко всей истории развития организмов надо принять закон ускорения пропорционально квадрату расстояния во времени от исходного пункта»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  (Диалектика природы)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Он означает, что эволюция в настоящее время должна идти несравнимо большими темпами, чем когда-то в прошлом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Так, если в соответствии с геохронологической концепцией, беспозвоночные эволюционировали в рыб 500 млн. лет тому назад, и заняло это у них 70 млн. лет, то в наше время качественный скачок подобного уровня должен занимать всего 5 млн. лет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Представляете, с какой скоростью тогда должно идти видообразование?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МАТЕМАТИЧЕСКИЙ ЗАКОН БИОЛОГИЧЕСКОЙ ЭВОЛЮЦИИ?  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360" y="1915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4949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В трех критических областях, в которых можно проверить современную теорию эволюции, она оказывается несостоятельной: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палеонтологическая летопись 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обнаруживает скорее структуру эволюционных скачков, а не постепенные преобразования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Гены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 – мощный стабилизирующий механизм, главная задача которого заключается </a:t>
            </a: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в предотвращении развития новых форм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Случайные, возникающие друг за другом </a:t>
            </a: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мутации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 на молекулярном уровне не являются объяснением высокой организованности и растущей сложности живых организмов.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914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Georgia"/>
              </a:rPr>
              <a:t>ЭВОЛЮЦИЯ – ФАКТ ИЛИ ТЕОРИЯ?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892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Даже Чарльз Дарвин, самый знаменитый сторонник эволюции отдавал себе отчет в недостаточности своей теори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Теория эволюции - всего лишь теория. Это не факт и не научный закон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В предисловии к первому изданию Ч. Дарвин честно признавал: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93122"/>
                </a:solidFill>
                <a:latin typeface="Georgia"/>
              </a:rPr>
              <a:t>«Я уверен, что в этой книге вряд ли найдется хоть один пункт, к которому нельзя подобрать факты, которые приводили бы к прямо противоположным выводам, чем те, к которым пришел я»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Ученые все чаще сомневаются в истинности эволюции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7" name="Прямоугольник 1"/>
          <p:cNvSpPr/>
          <p:nvPr/>
        </p:nvSpPr>
        <p:spPr>
          <a:xfrm>
            <a:off x="46836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Georgia"/>
              </a:rPr>
              <a:t>Эволюция – факт или теор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34949"/>
                </a:solidFill>
                <a:latin typeface="Cambria"/>
              </a:rPr>
              <a:t>Являются ли твои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34949"/>
                </a:solidFill>
                <a:latin typeface="Cambria"/>
              </a:rPr>
              <a:t>100 000 000 000 клеток просто случайностью ???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34949"/>
                </a:solidFill>
                <a:latin typeface="Cambria"/>
              </a:rPr>
              <a:t>Образование белков зависит от ДНК. Но ДНК не может образовываться без уже существующего белка . Возникает вопрос: «Что возникло сначала, белок  или ДНК ?»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250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"/>
              </a:rPr>
              <a:t>http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2"/>
              </a:rPr>
              <a:t>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3"/>
              </a:rPr>
              <a:t>upload.wikimedia.org/wikipedia/commons/d/d5/Animalia_diversity.jpg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животные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4"/>
              </a:rPr>
              <a:t>http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5"/>
              </a:rPr>
              <a:t>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6"/>
              </a:rPr>
              <a:t>www.nanonewsnet.ru/files/thumbs/2011/picture2_5.jpg</a:t>
            </a:r>
            <a:r>
              <a:rPr b="0" lang="ru-RU" sz="1400" spc="-1" strike="noStrike" u="sng">
                <a:solidFill>
                  <a:srgbClr val="cc9900"/>
                </a:solidFill>
                <a:uFillTx/>
                <a:latin typeface="Georgia"/>
                <a:hlinkClick r:id="rId7"/>
              </a:rPr>
              <a:t>М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 модель ДНК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8"/>
              </a:rPr>
              <a:t>http://elhow.ru/ucheba/estestvoznaniej/chto-ranshe-pojavilos-kurica-ili-jajco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курица и яйцо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9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0"/>
              </a:rPr>
              <a:t>bio.fizteh.ru/student/files/biology/biolections/lection04.html</a:t>
            </a: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 - 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строение белка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2"/>
              </a:rPr>
              <a:t>autorating.ru/?utm_source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3"/>
              </a:rPr>
              <a:t>=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4"/>
              </a:rPr>
              <a:t>Google_M&amp;utm_medium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5"/>
              </a:rPr>
              <a:t>=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6"/>
              </a:rPr>
              <a:t>cpc&amp;utm_campaign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7"/>
              </a:rPr>
              <a:t>=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18"/>
              </a:rPr>
              <a:t>Marki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– модель машины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Репродукция с сайта </a:t>
            </a:r>
            <a:r>
              <a:rPr b="0" lang="ru-RU" sz="1400" spc="-1" strike="noStrike" u="sng">
                <a:solidFill>
                  <a:srgbClr val="cc9900"/>
                </a:solidFill>
                <a:uFillTx/>
                <a:latin typeface="Georgia"/>
                <a:hlinkClick r:id="rId19"/>
              </a:rPr>
              <a:t>www.allposters.com</a:t>
            </a: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 – 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портрет Дарвина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Пчелиные соты. Фото с сайта thinkquest.org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Georgia"/>
                <a:hlinkClick r:id="rId20"/>
              </a:rPr>
              <a:t>http</a:t>
            </a: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://ru.wikipedia.org/w/index.php?title=%D0%A4%D0%B0%D0%B9%D0%BB:Darwin%27s_finches.jpeg&amp;filetimestamp=20061026165938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 вьюрки 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http://upload.wikimedia.org/wikipedia/commons/0/08/Haeckel_drawings.jpg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эмбриональное развитие хордовых 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Файл </a:t>
            </a: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Darwin's finches.jpeg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1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ИСТОЧНИКИ ИНФОРМАЦИИ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34949"/>
                </a:solidFill>
                <a:latin typeface="Georgia"/>
              </a:rPr>
              <a:t>http://www.origins.org.ua/page.php?id_story=274 - </a:t>
            </a:r>
            <a:r>
              <a:rPr b="1" i="1" lang="ru-RU" sz="1600" spc="-1" strike="noStrike">
                <a:solidFill>
                  <a:srgbClr val="534949"/>
                </a:solidFill>
                <a:latin typeface="Georgia"/>
              </a:rPr>
              <a:t>Эволюция перьев: большая проблема для Дарвинизма</a:t>
            </a:r>
            <a:r>
              <a:rPr b="1" i="1" lang="en-US" sz="16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0" i="1" lang="ru-RU" sz="1600" spc="-1" strike="noStrike" u="sng">
                <a:solidFill>
                  <a:srgbClr val="534949"/>
                </a:solidFill>
                <a:uFillTx/>
                <a:latin typeface="Georgia"/>
              </a:rPr>
              <a:t>Джерри Бергман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http://emmanuel.org.ua/Literatures/books/0010e.html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Сергей Головин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«Эволюция мифа»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http://www.scienceandapologetics.org/text/429.htm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 - Джерри  Бергман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«От обезьяны к человеку: символ эволюции оказался обманом»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0d0d"/>
                </a:solidFill>
                <a:latin typeface="Georgia"/>
              </a:rPr>
              <a:t>http://nauka.bible.com.ua/mif/m2-01.htm</a:t>
            </a:r>
            <a:r>
              <a:rPr b="1" i="1" lang="ru-RU" sz="1400" spc="-1" strike="noStrike">
                <a:solidFill>
                  <a:srgbClr val="0d0d0d"/>
                </a:solidFill>
                <a:latin typeface="Georgia"/>
              </a:rPr>
              <a:t>Д. Д.О. Юнак. Миф или Действительность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ИСТОЧНИКИ ИНФОРМАЦИИ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360" y="1773360"/>
            <a:ext cx="475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Только отвергнув здравый смысл, можно рассматривать мироздание как продукт чистой случайност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Профессор Эдвин Конклин, биолог Пристонского университета, не раз говорил, что случайное происхождение жизни может быть сравнимо лишь с возможностью появления </a:t>
            </a:r>
            <a:r>
              <a:rPr b="1" i="1" lang="ru-RU" sz="1800" spc="-1" strike="noStrike">
                <a:solidFill>
                  <a:srgbClr val="693122"/>
                </a:solidFill>
                <a:latin typeface="Georgia"/>
              </a:rPr>
              <a:t>Полного Словаря </a:t>
            </a: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в результате взрыва в типографи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93122"/>
                </a:solidFill>
                <a:latin typeface="Georgia"/>
              </a:rPr>
              <a:t>Все во Вселенной говорит о продуманном плане, о разуме, порядке и целенаправленност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СЕ ВО ВСЕЛЕННОЙ ГОВОРИТ О ПРОДУМАННОМ ПЛАНЕ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5524560" y="2133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140360" y="1719000"/>
            <a:ext cx="475272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Вращение Земли вокруг своей оси, с ее сменой ночи и дня, годовым оборотом вокруг Солнца, делают ее вполне пригодной для жизни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Это — далеко не простая</a:t>
            </a:r>
            <a:r>
              <a:rPr b="0" i="1" lang="en-US" sz="18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случайность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Атмосфера защищает Землю от смертельных ударов двадцати миллионов метеоров, которые ежедневно вторгаются в нее со скоростью тридцати миль в секунду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34949"/>
                </a:solidFill>
                <a:latin typeface="Georgia"/>
              </a:rPr>
              <a:t>Она также поддерживает на Земле температуру в пределах необходимых для жизни живых организмов.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СЕ ВО ВСЕЛЕННОЙ ГОВОРИТ О ПРОДУМАННОМ ПЛАНЕ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2" descr="C:\Documents and Settings\1234\Мои документы\Мои рисунки\земля.jpg"/>
          <p:cNvPicPr/>
          <p:nvPr/>
        </p:nvPicPr>
        <p:blipFill>
          <a:blip r:embed="rId1"/>
          <a:stretch/>
        </p:blipFill>
        <p:spPr>
          <a:xfrm>
            <a:off x="468360" y="1844640"/>
            <a:ext cx="36478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Monotype Corsiva"/>
              </a:rPr>
              <a:t>ЖИЗНЬ- КАК ОНА ВОЗНИКЛА?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4720" y="1628280"/>
            <a:ext cx="4680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  <a:ea typeface="Arial"/>
              </a:rPr>
              <a:t>Земля насыщена жизнью в таком обилии и разнообразии, что это потрясает наше воображение.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  <a:ea typeface="Arial"/>
              </a:rPr>
              <a:t>Подумайте, например, о сложном устройстве организма человека и животного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  <a:ea typeface="Arial"/>
              </a:rPr>
              <a:t>Подумайте о мозге с его невероятными способностями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34949"/>
                </a:solidFill>
                <a:latin typeface="Georgia"/>
                <a:ea typeface="Arial"/>
              </a:rPr>
              <a:t>Кто может объяснить функционирование этого удивительного органа? Объединенные умственные усилия всего человечества не могут воссоздать мозг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37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37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404640"/>
            <a:ext cx="594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50920" y="1341360"/>
            <a:ext cx="84470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8" descr="http://upload.wikimedia.org/wikipedia/commons/d/d5/Animalia_diversity.jpg"/>
          <p:cNvPicPr/>
          <p:nvPr/>
        </p:nvPicPr>
        <p:blipFill>
          <a:blip r:embed="rId1"/>
          <a:stretch/>
        </p:blipFill>
        <p:spPr>
          <a:xfrm>
            <a:off x="250920" y="1700280"/>
            <a:ext cx="403380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Franklin Gothic Medium"/>
              </a:rPr>
              <a:t> 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924360" y="1700280"/>
            <a:ext cx="49687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Когда-то в мире не было ничего: ни рыб, ни звезд, ни морей, ни красивых цветов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Вокруг царил непроглядный мрак и пустота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Но был Бог. Бог имел чудесный план: Он мечтал о прекрасном мире и создал его, сотворив из ничего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Когда Бог создавал что-что, Он лишь произносил : «Да будет так» и оно возникало мгновенно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Он создал свет. По Его мановению появились реки, моря, животные, птицы, деревья и земля покрылась зеленой травой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534949"/>
                </a:solidFill>
                <a:latin typeface="Monotype Corsiva"/>
              </a:rPr>
              <a:t>Последним Он сотворил мужчину и жену для него. Их назвали Адамом и Евой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64600" indent="-221400">
              <a:lnSpc>
                <a:spcPct val="7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Georgia"/>
              </a:rPr>
              <a:t>САМАЯ ВАЖНАЯ ИСТОРИЯ, КОТОРУЮ НУЖНО ЗНАТЬ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3" name="Picture 18" descr="http://t1.gstatic.com/images?q=tbn:ANd9GcRwrlPhPUaLzFLivLnA7Cd_dtegT_p7I2foztlrrXteLTuq65EV"/>
          <p:cNvPicPr/>
          <p:nvPr/>
        </p:nvPicPr>
        <p:blipFill>
          <a:blip r:embed="rId1"/>
          <a:stretch/>
        </p:blipFill>
        <p:spPr>
          <a:xfrm>
            <a:off x="179280" y="2001960"/>
            <a:ext cx="3745080" cy="337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0880" y="1719000"/>
            <a:ext cx="8407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Когда по поводу книги Геккеля доктор Деннерт… попытался определить отношение наиболее знаменитых естествоиспытателей к религии, то получился результат поистине неожиданным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Выяснилось, что из </a:t>
            </a: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262 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известнейших естествоиспытателей </a:t>
            </a:r>
            <a:r>
              <a:rPr b="1" i="1" lang="ru-RU" sz="2000" spc="-1" strike="noStrike">
                <a:solidFill>
                  <a:srgbClr val="534949"/>
                </a:solidFill>
                <a:latin typeface="Georgia"/>
              </a:rPr>
              <a:t>242</a:t>
            </a:r>
            <a:r>
              <a:rPr b="0" i="1" lang="ru-RU" sz="2000" spc="-1" strike="noStrike">
                <a:solidFill>
                  <a:srgbClr val="534949"/>
                </a:solidFill>
                <a:latin typeface="Georgia"/>
              </a:rPr>
              <a:t> должны быть признаны верующими в Бога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Georgia"/>
              </a:rPr>
              <a:t>Ввиду такого факта должно прекратиться то нарекание, что христианская вера не соединена с естественнонаучным исследованием, или что науке предназначено заменить веру»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Medium"/>
              </a:rPr>
              <a:t>ОТНОШЕНИЕ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Franklin Gothic Medium"/>
              </a:rPr>
              <a:t>ЕСТЕСТВОИСПЫТАТЕЛЕЙ К РЕЛИГ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427280" y="1773000"/>
            <a:ext cx="4259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534949"/>
                </a:solidFill>
                <a:latin typeface="Georgia"/>
              </a:rPr>
              <a:t>Дарвин также остался верующим: «Он говорит: «Вопрос, существует ли Творец и Управитель мира, величайшими умами, которые когда-либо были на земле, решался всегда утвердительно» 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534949"/>
                </a:solidFill>
                <a:latin typeface="Georgia"/>
              </a:rPr>
              <a:t>(Дарвин. Второе главное произведение, Изд. 4, с.88).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534949"/>
                </a:solidFill>
                <a:latin typeface="Georgia"/>
              </a:rPr>
              <a:t> </a:t>
            </a:r>
            <a:r>
              <a:rPr b="1" i="1" lang="ru-RU" sz="1500" spc="-1" strike="noStrike">
                <a:solidFill>
                  <a:srgbClr val="534949"/>
                </a:solidFill>
                <a:latin typeface="Georgia"/>
              </a:rPr>
              <a:t>В его биографии, изданной его сыном, находится замечание Дарвина, в котором он сам указывает что то, что пока невозможно видеть в безграничном и чудном универсе результат действия слепого случая, вынуждает его к признанию существования Бога.</a:t>
            </a: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37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433680" cy="41050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8"/>
          <p:cNvSpPr/>
          <p:nvPr/>
        </p:nvSpPr>
        <p:spPr>
          <a:xfrm>
            <a:off x="250920" y="587700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рвин в последний год жизни (1882). Портрет работы Джона Коль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1722240"/>
            <a:ext cx="8424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48320" y="1628280"/>
            <a:ext cx="4316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d0d0d"/>
                </a:solidFill>
                <a:latin typeface="Georgia"/>
              </a:rPr>
              <a:t>Живые организмы обладают неправдоподобно сложными структурами - на анатомическом, клеточном, молекулярном уровнях, - которые попросту не могли бы функционировать, будь они проще. 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d0d0d"/>
                </a:solidFill>
                <a:latin typeface="Georgia"/>
              </a:rPr>
              <a:t>Из этого можно сделать единственное здравое заключение: все эти структуры - </a:t>
            </a:r>
            <a:r>
              <a:rPr b="1" i="1" lang="ru-RU" sz="1700" spc="-1" strike="noStrike">
                <a:solidFill>
                  <a:srgbClr val="0d0d0d"/>
                </a:solidFill>
                <a:latin typeface="Georgia"/>
              </a:rPr>
              <a:t>результат разумного замысла</a:t>
            </a:r>
            <a:r>
              <a:rPr b="0" i="1" lang="ru-RU" sz="1700" spc="-1" strike="noStrike">
                <a:solidFill>
                  <a:srgbClr val="0d0d0d"/>
                </a:solidFill>
                <a:latin typeface="Georgia"/>
              </a:rPr>
              <a:t>, а не эволюции. </a:t>
            </a:r>
            <a:br>
              <a:rPr sz="1700"/>
            </a:br>
            <a:r>
              <a:rPr b="0" i="1" lang="ru-RU" sz="1700" spc="-1" strike="noStrike">
                <a:solidFill>
                  <a:srgbClr val="0d0d0d"/>
                </a:solidFill>
                <a:latin typeface="Georgia"/>
              </a:rPr>
              <a:t>Последние открытия доказывают, что даже на молекулярном уровне жизнь имеет такую степень сложности, которая никак не могла возникнуть эволюционным способом.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79280" y="260280"/>
            <a:ext cx="813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Цитология и молекулярная биолог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Являются ли 100 000 000 000 клеток просто случайностью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7" descr="C:\Documents and Settings\1234\Мои документы\Мои рисунки\ДНК.jpg"/>
          <p:cNvPicPr/>
          <p:nvPr/>
        </p:nvPicPr>
        <p:blipFill>
          <a:blip r:embed="rId1"/>
          <a:stretch/>
        </p:blipFill>
        <p:spPr>
          <a:xfrm>
            <a:off x="324000" y="1844640"/>
            <a:ext cx="432432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41:47Z</dcterms:created>
  <dc:creator>User</dc:creator>
  <dc:description/>
  <cp:keywords/>
  <dc:language>en-US</dc:language>
  <cp:lastModifiedBy>Customer</cp:lastModifiedBy>
  <dcterms:modified xsi:type="dcterms:W3CDTF">2012-02-11T16:43:20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981049</vt:lpwstr>
  </property>
</Properties>
</file>