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15138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0B275-9BEB-451E-9800-CB14A4FE7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A9610-8C3B-4344-8E3C-4DE1EC537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65C19-33EC-46B8-82EE-5564FCE7A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90C69-6ADD-4598-A79A-17D78CEE7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57533-35A6-4E33-A4CC-675BFF5B7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69034-CD57-4C57-85FC-D123CF0E2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1E6C0-95D5-44AA-B95F-BBAC66D64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BBFBC-C3D7-4B41-A89C-C0F11623F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0839D-5BB6-439F-ADDD-AD7AED189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C27C0-73FF-4A32-A028-CB611A876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52060-402C-41AD-969D-04803C76D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B4206-A3A8-4483-86FB-26B9E0D52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433B3-2B63-48C9-8FA3-A07BDD4CA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EB255-8972-4863-9C94-C203931DC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C4BF7-63CC-42C6-9FBC-38D0A293A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4AC40-C37E-446C-86EB-0153B255F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A42EB-C1FD-4860-B3C5-7D3A2AD80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49E21-4DD3-464B-AB84-40836D063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33D49-090F-42D1-8542-D770DD0D4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F1879-4C08-41E3-887A-7D39BEEC6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F7857-B1EA-42BD-A694-B99456040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75CB7-0790-41E0-B5B3-4FDB3248B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4BCFE-A539-47B4-B62A-15FDAE4C8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1EAA3-97F0-48C0-B5CD-60D425B6D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83B88-BFD6-4DD6-8838-3D491B629D93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FDD82-5E6C-427E-A9F9-D0C1AE04E45A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6600"/>
                </a:solidFill>
                <a:latin typeface="Times New Roman"/>
              </a:rPr>
              <a:t>Обобщающий урок по теме </a:t>
            </a:r>
            <a:br>
              <a:rPr sz="2800"/>
            </a:br>
            <a:r>
              <a:rPr b="1" lang="ru-RU" sz="2800" spc="-1" strike="noStrike">
                <a:solidFill>
                  <a:srgbClr val="996600"/>
                </a:solidFill>
                <a:latin typeface="Times New Roman"/>
              </a:rPr>
              <a:t>«Клетка элементарная и структурная единица всего живого»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25200" y="1980720"/>
            <a:ext cx="803916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Форма проведения: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емина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Цель: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крепить знания учащихся о строении и функционировании клетки, взаимодействии её частей как основе целостности; представить клетку как единую живую систем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Задачи: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должить формирование общебиологических понятий и закономерностей о единстве всего живого на Земл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явить умение учащихся применять на практике приёмы интеллектуальной деятельност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тизировать знания об основных органоидах клетки и установить взаимосвязь между ни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знакомить учащихся с достижениями современной цитологии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«ТИПИЧНАЯ» ЖИВОТНАЯ КЛЕТКА – схематически изображены основные клеточные структуры."/>
          <p:cNvPicPr/>
          <p:nvPr/>
        </p:nvPicPr>
        <p:blipFill>
          <a:blip r:embed="rId1"/>
          <a:stretch/>
        </p:blipFill>
        <p:spPr>
          <a:xfrm>
            <a:off x="7380360" y="1700280"/>
            <a:ext cx="129528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33"/>
                </a:solidFill>
                <a:latin typeface="Times New Roman"/>
              </a:rPr>
              <a:t>Рефлексия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Задание 5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Проанализируйте как прошел семинар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Удалось ли вам достигнуть  цели семинара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Какие базовые знания и умения вы закрепили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Что нового вы узнали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Нужна ли такая форма работы в старших классах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660066"/>
                </a:solidFill>
                <a:latin typeface="Times New Roman"/>
              </a:rPr>
              <a:t>Если вы хотите узнать больше…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0033"/>
                </a:solidFill>
                <a:latin typeface="Arial"/>
              </a:rPr>
              <a:t>1.   Грин Н, Стаут У, Тейлор Д. Биология: В 3-х т. Т.1: Пер. с англ./под ред. Р. Сопера. – М.: Мир, 1993. – 368с., и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0033"/>
                </a:solidFill>
                <a:latin typeface="Arial"/>
              </a:rPr>
              <a:t>Современное руководство по общей биологии, написанное английскими авторами. Весь материал изложен на весьма высоком уровне, но простота изложения и удачное расположение тем делает его доступным для учащихся старших класс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0033"/>
                </a:solidFill>
                <a:latin typeface="Arial"/>
              </a:rPr>
              <a:t>2. Общая биология. А.О. Рувинский 10-11 клас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0033"/>
                </a:solidFill>
                <a:latin typeface="Arial"/>
              </a:rPr>
              <a:t>3.  </a:t>
            </a:r>
            <a:r>
              <a:rPr b="0" lang="en-US" sz="2000" spc="-1" strike="noStrike">
                <a:solidFill>
                  <a:srgbClr val="330033"/>
                </a:solidFill>
                <a:latin typeface="Arial"/>
              </a:rPr>
              <a:t>CD for Windows</a:t>
            </a:r>
            <a:r>
              <a:rPr b="0" lang="ru-RU" sz="2000" spc="-1" strike="noStrike">
                <a:solidFill>
                  <a:srgbClr val="330033"/>
                </a:solidFill>
                <a:latin typeface="Arial"/>
              </a:rPr>
              <a:t>. Библиотека электронных наглядных пособий. Кирилл и Мефодий. Биология 6-9 класс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0033"/>
                </a:solidFill>
                <a:latin typeface="Arial"/>
              </a:rPr>
              <a:t>4. </a:t>
            </a:r>
            <a:r>
              <a:rPr b="0" lang="en-US" sz="2000" spc="-1" strike="noStrike">
                <a:solidFill>
                  <a:srgbClr val="330033"/>
                </a:solidFill>
                <a:latin typeface="Arial"/>
              </a:rPr>
              <a:t>CD for Windows</a:t>
            </a:r>
            <a:r>
              <a:rPr b="0" lang="ru-RU" sz="2000" spc="-1" strike="noStrike">
                <a:solidFill>
                  <a:srgbClr val="330033"/>
                </a:solidFill>
                <a:latin typeface="Arial"/>
              </a:rPr>
              <a:t>. Библиотека электронных наглядных пособий. Кирилл и Мефодий. Общая биология 10,11 клас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31680" y="549360"/>
            <a:ext cx="71578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6600"/>
                </a:solidFill>
                <a:latin typeface="Times New Roman"/>
              </a:rPr>
              <a:t>Базовые знания:</a:t>
            </a:r>
            <a:r>
              <a:rPr b="1" lang="en-US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br>
              <a:rPr sz="3800"/>
            </a:b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47880" y="1626840"/>
            <a:ext cx="766440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0033"/>
                </a:solidFill>
                <a:latin typeface="Arial"/>
              </a:rPr>
              <a:t>уровни клеточной организаци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0033"/>
                </a:solidFill>
                <a:latin typeface="Arial"/>
              </a:rPr>
              <a:t>развитие знаний о клетке (Р.Гук, Р. Вирхов, К. Бэр, М. Шлейден и Т.Шван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0033"/>
                </a:solidFill>
                <a:latin typeface="Arial"/>
              </a:rPr>
              <a:t>положения клеточной теории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0033"/>
                </a:solidFill>
                <a:latin typeface="Arial"/>
              </a:rPr>
              <a:t>методы изучения клетк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0033"/>
                </a:solidFill>
                <a:latin typeface="Arial"/>
              </a:rPr>
              <a:t>жидкостно-мозаичную модель строения плазматической мембран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0033"/>
                </a:solidFill>
                <a:latin typeface="Arial"/>
              </a:rPr>
              <a:t>механизм поступления веществ в клетку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0033"/>
                </a:solidFill>
                <a:latin typeface="Arial"/>
              </a:rPr>
              <a:t>связь строения и функций частей и органоидов клетки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0033"/>
                </a:solidFill>
                <a:latin typeface="Arial"/>
              </a:rPr>
              <a:t>роль органических и неорганических веществ в клетки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0033"/>
                </a:solidFill>
                <a:latin typeface="Arial"/>
              </a:rPr>
              <a:t>отличия в строении клеток прокариот и эукариот, автотрофных и гетеротрофных клеток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0033"/>
                </a:solidFill>
                <a:latin typeface="Arial"/>
              </a:rPr>
              <a:t>строение и функции хромосом, ДНК – носитель наследственной информации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0033"/>
                </a:solidFill>
                <a:latin typeface="Arial"/>
              </a:rPr>
              <a:t>особенности строения растительной и животной клеток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0033"/>
                </a:solidFill>
                <a:latin typeface="Arial"/>
              </a:rPr>
              <a:t>жизненный цикл клетки, деление клетки: митоз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0033"/>
                </a:solidFill>
                <a:latin typeface="Arial"/>
              </a:rPr>
              <a:t>вирусы – неклеточные формы жизн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Этапы урока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914400" y="1484280"/>
          <a:ext cx="7689600" cy="5133960"/>
        </p:xfrm>
        <a:graphic>
          <a:graphicData uri="http://schemas.openxmlformats.org/drawingml/2006/table">
            <a:tbl>
              <a:tblPr/>
              <a:tblGrid>
                <a:gridCol w="76896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Организация урок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Актуализация зна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зентация «Зачем изучать клетку, когда вокруг столько интересного?"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Контроль знаний, умений и навык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) Представление моделей растительной, животной клето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) Защита знаний -  презентаци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Контроль зна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полнение карты контроля знаний учащихся по теме «Клетка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 Подведение итогов уро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ефлекс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 Рекоменд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итерату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83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00"/>
                </a:solidFill>
                <a:latin typeface="Times New Roman"/>
              </a:rPr>
              <a:t>Основные понятия по теме </a:t>
            </a:r>
            <a:br>
              <a:rPr sz="3200"/>
            </a:br>
            <a:r>
              <a:rPr b="1" lang="en-US" sz="3200" spc="-1" strike="noStrike">
                <a:solidFill>
                  <a:srgbClr val="996600"/>
                </a:solidFill>
                <a:latin typeface="Times New Roman"/>
              </a:rPr>
              <a:t>«Основы цитологии»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42560" y="1557000"/>
            <a:ext cx="7108920" cy="349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Задание 1</a:t>
            </a:r>
            <a:r>
              <a:rPr b="0" lang="ru-RU" sz="2800" spc="-1" strike="noStrike">
                <a:solidFill>
                  <a:srgbClr val="990033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33"/>
                </a:solidFill>
                <a:latin typeface="Arial"/>
              </a:rPr>
              <a:t>Составьте словарь терминов к семинару</a:t>
            </a:r>
            <a:r>
              <a:rPr b="0" lang="ru-RU" sz="3200" spc="-1" strike="noStrike">
                <a:solidFill>
                  <a:srgbClr val="990033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33"/>
                </a:solidFill>
                <a:latin typeface="Arial"/>
              </a:rPr>
              <a:t>«Клетка элементарная и структурная единица всего живого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057400" y="1598760"/>
            <a:ext cx="661824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6600"/>
                </a:solidFill>
                <a:latin typeface="Times New Roman"/>
              </a:rPr>
              <a:t>Основные понятия по теме «Основы цитологии»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042560" y="3500280"/>
            <a:ext cx="7777080" cy="25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кариоты, эукариоты, органоиды клетки, мембранный принцип организации, двумембранные, одномембранные, немембранные органоиды,  включения,  активный и пассивный транспорт веществ, фагоцитоз, пиноцитоз, гиалоплазма, цитоскелет, структуры клеточного ядра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хроматин, хромосомы, ядрышк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96600"/>
                </a:solidFill>
                <a:latin typeface="Times New Roman"/>
              </a:rPr>
              <a:t>Зачем изучать клетку, когда вокруг столько интересного?</a:t>
            </a:r>
            <a:br>
              <a:rPr sz="3000"/>
            </a:br>
            <a:r>
              <a:rPr b="1" lang="en-US" sz="1500" spc="-1" strike="noStrike">
                <a:solidFill>
                  <a:srgbClr val="996600"/>
                </a:solidFill>
                <a:latin typeface="Times New Roman"/>
              </a:rPr>
              <a:t>Приложение 1 </a:t>
            </a:r>
            <a:endParaRPr b="0" lang="en-US" sz="15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Задание 2</a:t>
            </a:r>
            <a:r>
              <a:rPr b="0" lang="en-US" sz="3200" spc="-1" strike="noStrike">
                <a:solidFill>
                  <a:srgbClr val="990033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Arial"/>
              </a:rPr>
              <a:t>Записать в рабочей тетради выводы по слайд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33"/>
                </a:solidFill>
                <a:latin typeface="Arial"/>
              </a:rPr>
              <a:t>«Тайны клетк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0033"/>
                </a:solidFill>
                <a:latin typeface="Arial"/>
              </a:rPr>
              <a:t>«Место клетки в живом организме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0033"/>
                </a:solidFill>
                <a:latin typeface="Arial"/>
              </a:rPr>
              <a:t>«Методы изучения клетк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33"/>
                </a:solidFill>
                <a:latin typeface="Arial"/>
              </a:rPr>
              <a:t>«Достижения современной цитологи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0033"/>
                </a:solidFill>
                <a:latin typeface="Times New Roman"/>
              </a:rPr>
              <a:t>Что позволяют узнать о клетке различные модели? </a:t>
            </a:r>
            <a:r>
              <a:rPr b="1" lang="en-US" sz="1500" spc="-1" strike="noStrike">
                <a:solidFill>
                  <a:srgbClr val="330033"/>
                </a:solidFill>
                <a:latin typeface="Times New Roman"/>
              </a:rPr>
              <a:t>Приложение 2</a:t>
            </a:r>
            <a:endParaRPr b="0" lang="en-US" sz="15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Задание 3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Что позволяют узнать о клетке различные модел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0033"/>
                </a:solidFill>
                <a:latin typeface="Arial"/>
              </a:rPr>
              <a:t>Объемная модель растительной клетки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0033"/>
                </a:solidFill>
                <a:latin typeface="Arial"/>
              </a:rPr>
              <a:t>Модель растительной клетки из пластилина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0033"/>
                </a:solidFill>
                <a:latin typeface="Arial"/>
              </a:rPr>
              <a:t>Модель животной клетки в форме пазл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0033"/>
                </a:solidFill>
                <a:latin typeface="Arial"/>
              </a:rPr>
              <a:t>Объемная модель животной клетки из пенопласта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0033"/>
                </a:solidFill>
                <a:latin typeface="Arial"/>
              </a:rPr>
              <a:t>Карта-схема животной клетки и путеводитель к ней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996600"/>
                </a:solidFill>
                <a:latin typeface="Times New Roman"/>
              </a:rPr>
              <a:t>Защита знаний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br>
              <a:rPr sz="4200"/>
            </a:br>
            <a:r>
              <a:rPr b="1" lang="en-US" sz="1500" spc="-1" strike="noStrike">
                <a:solidFill>
                  <a:srgbClr val="330033"/>
                </a:solidFill>
                <a:latin typeface="Times New Roman"/>
              </a:rPr>
              <a:t>Приложение 3</a:t>
            </a:r>
            <a:endParaRPr b="0" lang="en-US" sz="15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езентация 1</a:t>
            </a:r>
            <a:r>
              <a:rPr b="0" lang="ru-RU" sz="28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«Уровни клеточной организации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езентация 2</a:t>
            </a:r>
            <a:r>
              <a:rPr b="0" lang="ru-RU" sz="28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«Основные компоненты эукариотической клетки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езентация 3</a:t>
            </a:r>
            <a:r>
              <a:rPr b="0" lang="ru-RU" sz="28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«Органоиды клетки и их взаимосвязь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езентация 4</a:t>
            </a:r>
            <a:r>
              <a:rPr b="0" lang="ru-RU" sz="28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«Черты сходства и различия растительной, животной и грибной клетки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езентация 5</a:t>
            </a:r>
            <a:r>
              <a:rPr b="0" lang="ru-RU" sz="28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«Клеточная теория строения организмов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0033"/>
                </a:solidFill>
                <a:latin typeface="Times New Roman"/>
              </a:rPr>
              <a:t>Контроль знаний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Задание 4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Заполните карту контроля знаний по теме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«Клетка элементарная и структурная единица всего живого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Выполнение заданий части А,Б,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9T06:07:07Z</dcterms:created>
  <dc:creator>user</dc:creator>
  <dc:description/>
  <dc:language>en-US</dc:language>
  <cp:lastModifiedBy>user</cp:lastModifiedBy>
  <dcterms:modified xsi:type="dcterms:W3CDTF">2007-12-19T17:36:37Z</dcterms:modified>
  <cp:revision>18</cp:revision>
  <dc:subject/>
  <dc:title>Основные понятия по теме «Основы цитологии»</dc:title>
</cp:coreProperties>
</file>