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F6A-92B6-485A-8F42-8FCF52EF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0C8-6273-4FB6-9805-99E7D8B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A0E-630F-4E0A-B93E-16422D84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E0C-D020-4A4B-AB1F-A97788E8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5AE-2E3F-4512-A4AE-F7784CF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06B-82DE-4EA9-A613-3C783D1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7876-7593-464D-9E25-1969F7B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9560-D977-4137-84F1-B9181AD6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2A09-1283-4375-B0F4-019D1872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10B-3B64-42F5-852E-5BD9E49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8BD-5BEB-432A-A6A7-7EBF082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1DF-9EA4-4C72-9BB8-7A14D658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C10A-54A0-4475-A2B8-3D8A3BF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90C4-333E-4050-B16D-2B1AFA3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1312-49C2-4B8E-886F-ED75990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3162-BBC9-4D4F-B8D6-EDC35DB3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0053-281F-4E89-B0A9-369E75E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D4B-AF15-4146-A1E3-42267139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E82-694F-4E02-915D-67CE523D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FE6-85C4-403C-AEB5-166864F1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061-1CC4-4FC9-9E76-87C68F6C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431-30C8-454D-B17A-4C9D553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422-98FB-4ADA-AEB5-5D46E3E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0B1-4B39-4124-9CF1-8447E6B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D02-99B1-4F1E-B342-A673DCE4EC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02B9-14CF-4C45-9205-00E2F558E1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Comic Sans MS"/>
              </a:rPr>
              <a:t>РИБОСО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mic Sans MS"/>
              </a:rPr>
              <a:t>РИБОСОМЫ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, внутриклеточные частицы, состоящие из рибосомной РНК и белков. Связываясь с молекулой мРНК, осуществляют ее трансляцию (биосинтез белка). С одной молекулой мРНК могут связываться несколько рибосом, образуя полирибосому (полисому). Рибосомы присутствуют в клетках всех живых организм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Рибосомы - очень мелкие органоиды клетки, образованные рибонуклеиновыми кислотами и белками. Каждая рибосома состоит из двух частиц - малой и большой. Основной функцией рибосом является синтез белк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30600" y="1413000"/>
            <a:ext cx="4205520" cy="4680000"/>
            <a:chOff x="4530600" y="1413000"/>
            <a:chExt cx="4205520" cy="4680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30600" y="1413000"/>
              <a:ext cx="420552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530600" y="1413000"/>
              <a:ext cx="420552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Строение рибосомы: 1 – большая субъединица, 2 – малая субъединиц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35:25Z</dcterms:created>
  <dc:creator>User</dc:creator>
  <dc:description/>
  <dc:language>en-US</dc:language>
  <cp:lastModifiedBy>User</cp:lastModifiedBy>
  <dcterms:modified xsi:type="dcterms:W3CDTF">2007-12-14T13:35:35Z</dcterms:modified>
  <cp:revision>1</cp:revision>
  <dc:subject/>
  <dc:title>РИБОСОМЫ</dc:title>
</cp:coreProperties>
</file>