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9E9-6319-48B4-9362-B2349411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A37-8BCB-4A0C-B1C0-DFBD7127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92A-E7E5-4710-B304-26470F48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6EF-16B2-4B5A-A0DB-87A5AD2F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A6D1-564E-41C4-8A82-FB5A3A54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BBAA-A423-463B-BC87-8FFF1CDB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D67E-F9FF-4DE0-B1C5-B09C3252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8F0F-F12F-4A06-A252-C39FE403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862A-54EE-4246-A16D-6EBB017B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5742-DD4E-449F-BC8B-597E1D15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EE7E-20A8-42FE-A43B-DB4FBDF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78C-AFB0-46A4-ADB6-B8FD1C19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2F4C-5A3D-4F1E-8808-9540FBB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A632-F592-4C06-BFD0-9F4DBA96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79B3-5C4A-4FF0-BDA5-FF23E09D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559A-C993-4759-AAAB-FA9189B9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ECF6-9875-46C2-BB75-029EB0E1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66C-E953-4140-9D58-08D14481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E20-3C27-4F61-8538-C51A9B18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0B3-09D5-46B8-9B78-7161F8C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436-53D3-4EEE-A44F-207486EC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11E-34B3-4488-A019-DD41190D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57E-2A55-43DC-821E-02556425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6AB-1A2F-41E4-B03E-3B2AEF56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A3DF-BB1C-4B20-9D4D-007588F233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B009-C7DD-4582-AB4E-DA13550EC1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 u="sng">
                <a:solidFill>
                  <a:srgbClr val="eaeaea"/>
                </a:solidFill>
                <a:uFillTx/>
                <a:latin typeface="Comic Sans MS"/>
              </a:rPr>
              <a:t>ЛИЗОСОМЫ</a:t>
            </a:r>
            <a:endParaRPr b="1" lang="en-US" sz="4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mic Sans MS"/>
              </a:rPr>
              <a:t>ЛИЗОСОМЫ (от лиз и греч. soma — тело), структуры в клетках животных и растительных организмов, содержащие ферменты, способные расщеплять (т. е лизировать — отсюда и название) белки, полисахариды, пептиды, нуклеиновые кислот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mic Sans MS"/>
              </a:rPr>
              <a:t>Основная  роль — участие в процессах внутриклеточного расщепления как экзогенных, так и эндогенных биологических макромолекул. Характерной чертой лизосом является то, что они содержат около 40 гидролитических ферментов: протеиназы, нуклеазы, фосфатазы, гликозидазы и др., оптимум действия которых осуществляется при рН5. В лизосомах кислое значение среды создается из-за наличия в их мембранах протоновой «помпы», потребляющей энергию АТФ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изосо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2679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пузырьки диаметром 5 мкм, содержащие гидролитические фермен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3579120"/>
            <a:ext cx="26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щепление органических веществ, старых частей клетки, целых клеток и даже отдельных органов (хвост головастика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459640" y="47628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9640" y="47628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3:22:22Z</dcterms:created>
  <dc:creator>User</dc:creator>
  <dc:description/>
  <dc:language>en-US</dc:language>
  <cp:lastModifiedBy>User</cp:lastModifiedBy>
  <dcterms:modified xsi:type="dcterms:W3CDTF">2007-12-15T09:53:30Z</dcterms:modified>
  <cp:revision>2</cp:revision>
  <dc:subject/>
  <dc:title>ЛИЗОСОМЫ</dc:title>
</cp:coreProperties>
</file>