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60F-2869-43BA-9E29-FE652E5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877-A01E-49D2-9250-B233FBF0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ACB-87E2-4839-A8E4-D419072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3F2-568D-4817-B8FB-88CB3B28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729-F3E9-4481-8EEC-D0090AC6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30DA-FF14-4B11-94E1-28170808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DCCC-67B3-4AB4-9D60-9AAD0A5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956B-0FD3-40F9-BE67-49E9E2C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E42F-AF77-433E-B31A-C90BC1A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64D3-E7DA-46F9-A984-B3D6B556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84F-73BD-4CF2-8CB0-CFE0F33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FEE-31AD-4A36-AAF9-91A0F97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BAB-5A36-4D27-8A37-3ABCBD32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90C4-1B68-4872-A33C-4D802D3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A4C8-88E6-4C42-97D5-CB129A1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9CF-E73E-410C-B7C5-4DB536BB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199B-0892-4021-B03E-9223759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F43-C9B9-470C-968E-8999E2A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550-A7D6-43A5-9BFF-B5503AB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CCE-37AC-4450-BFD7-9E34967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C79-6012-45CC-A7A0-39EE2D18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D05-B2B8-4018-AE05-663BC4D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A94-01D6-4827-92E3-FC4A67D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D6E-C100-49C8-989C-A8A981B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7D5E-CD08-42A9-A076-56E3C0DEDD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951B-0FD8-4A43-B86B-2B353F9B89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672948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Презентация по теме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«Уровни организации живой природы. Клеточный уровень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172360" y="549360"/>
          <a:ext cx="5065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549360"/>
                    <a:ext cx="506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ЯДР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421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ЯДРО (клеточное ядро)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,обязательная часть клетки у многих одноклеточных и всех многоклеточных организмов. Размеры от 1 мкм (у некоторых простейших) до 1 мм (в яйцах некоторых рыб и земноводных). Термин «ядро» (лат. nucleus) впервые применил Р. Броун в 1833 году, когда описывал шарообразные структуры, наблюдаемые им в клетках раст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ЭУКАРИО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летки эукариот состоят из трех неразрывно связанных друг с другом частей: клеточной оболочки, цитоплазмы и ядра. В ядре заключены хромосомы, состоящие из молекул ДН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38880" cy="40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Хромосомный набо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00"/>
                </a:solidFill>
                <a:uFillTx/>
                <a:latin typeface="Comic Sans MS"/>
              </a:rPr>
              <a:t>ХРОМОСОМНЫЙ НАБОР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, совокупность хромосом, заключенных в каждой клетке организма. В половых клетках диплоидных видов содержится гаплоидный (одинарный) хромосомный набор, в котором хромосома каждого типа встречается только один раз; в большинстве соматических клеток большинства видов — диплоидный (двойной), в котором имеются всегда по две хромосомы каждого типа (парные, или гомологичные, хромосомы, происходящие одна от материнского организма, а другая от отцовского). Каждый вид организмов обладает характерным и постоянным хромосомным наборо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Ядрыш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ЯДРЫШКО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(нуклеоль), плотное тельце внутри ядра клетки. Состоит в основном из рибонуклеопротеидов; участвует в образовании рибосом. Обычно в клетке одно ядрышко, реже несколько или 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ЭНДОПЛАЗМАТИЧЕСКАЯ СЕ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ЭНДОПЛАЗМАТИЧЕСКАЯ СЕТЬ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(эндоплазматический ретикулум), клеточный органоид; система канальцев, пузырьков и «цистерн», отграниченных мембранами. Расположена в цитоплазме клетки. Участвует в обменных процессах, обеспечивая транспорт веществ из окружающей среды в цитоплазму и между отдельными внутриклеточными структу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Строение эндоплазматической се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000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Эндоплазматическая сеть, представляет собой систему расположенных в цитоплазме канальцев, окруженных эндоплазматической мембраной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27640" y="1844640"/>
            <a:ext cx="4500360" cy="4164120"/>
            <a:chOff x="4427640" y="1844640"/>
            <a:chExt cx="4500360" cy="4164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4427640" y="1844640"/>
              <a:ext cx="450036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4427640" y="1844640"/>
              <a:ext cx="4500360" cy="416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99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РИБОСО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omic Sans MS"/>
              </a:rPr>
              <a:t>РИБОСОМЫ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, внутриклеточные частицы, состоящие из рибосомной РНК и белков. Связываясь с молекулой мРНК, осуществляют ее трансляцию (биосинтез белка). С одной молекулой мРНК могут связываться несколько рибосом, образуя полирибосому (полисому). Рибосомы присутствуют в клетках всех живых организмо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Строение рибосомы: 1 — большая субъединица, 2 — малая субъединиц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Рибосомы - очень мелкие органоиды клетки, образованные рибонуклеиновыми кислотами и белками. Каждая рибосома состоит из двух частиц - малой и большой. Основной функцией рибосом является синтез белко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30600" y="1413000"/>
            <a:ext cx="4205520" cy="4680000"/>
            <a:chOff x="4530600" y="1413000"/>
            <a:chExt cx="4205520" cy="46800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30600" y="1413000"/>
              <a:ext cx="420552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4530600" y="1413000"/>
              <a:ext cx="420552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99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АППАРАТ  ГОЛЬДЖ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421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АППАРАТ  ГОЛЬДЖИ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(Гольджи комплекс) (по имени К. Гольджи), органоид клетки, участвующий в формировании продуктов ее жизнедеятельности (различных секретов, коллагена, гликогена, липидов и др.), в синтезе гликопротеи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Из истории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86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ГОЛЬДЖИ (Golgi) Камилло (1844-1926), итальянский гистолог, иностранный член-корреспондент Петербургской АН (1905). Фундаментальные труды по гистологии и морфологии нервной системы. Разработал (1873) метод приготовления препаратов нервной ткани. Установил два типа нервных клеток. Описал т. н. Гольджи аппарат и др. Нобелевская премия (1906, совместно с С. Рамон-и-Кахал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459640" y="33336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33336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60520" y="54936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СОДЕРЖАНИЕ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989000"/>
            <a:ext cx="4319280" cy="576360"/>
          </a:xfrm>
          <a:custGeom>
            <a:avLst/>
            <a:gdLst>
              <a:gd name="textAreaLeft" fmla="*/ 37080 w 4319280"/>
              <a:gd name="textAreaRight" fmla="*/ 4282200 w 43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61784" h="21600">
                <a:moveTo>
                  <a:pt x="0" y="0"/>
                </a:moveTo>
                <a:lnTo>
                  <a:pt x="161784" y="0"/>
                </a:lnTo>
                <a:lnTo>
                  <a:pt x="161784" y="21600"/>
                </a:lnTo>
                <a:lnTo>
                  <a:pt x="0" y="21600"/>
                </a:lnTo>
                <a:close/>
              </a:path>
              <a:path fill="lightenLess" w="161784" h="21600">
                <a:moveTo>
                  <a:pt x="0" y="0"/>
                </a:moveTo>
                <a:lnTo>
                  <a:pt x="161784" y="0"/>
                </a:lnTo>
                <a:lnTo>
                  <a:pt x="160384" y="1400"/>
                </a:lnTo>
                <a:lnTo>
                  <a:pt x="1400" y="1400"/>
                </a:lnTo>
                <a:close/>
              </a:path>
              <a:path fill="darken" w="161784" h="21600">
                <a:moveTo>
                  <a:pt x="161784" y="0"/>
                </a:moveTo>
                <a:lnTo>
                  <a:pt x="161784" y="21600"/>
                </a:lnTo>
                <a:lnTo>
                  <a:pt x="160384" y="20200"/>
                </a:lnTo>
                <a:lnTo>
                  <a:pt x="160384" y="1400"/>
                </a:lnTo>
                <a:close/>
              </a:path>
              <a:path fill="darkenLess" w="161784" h="21600">
                <a:moveTo>
                  <a:pt x="16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84" y="20200"/>
                </a:lnTo>
                <a:close/>
              </a:path>
              <a:path fill="lighten" w="16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00"/>
                </a:solidFill>
                <a:uFillTx/>
                <a:latin typeface="Comic Sans MS"/>
                <a:hlinkClick r:id="rId3" action="ppaction://hlinksldjump"/>
              </a:rPr>
              <a:t>1. КЛЕ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492280"/>
            <a:ext cx="4319280" cy="576360"/>
          </a:xfrm>
          <a:custGeom>
            <a:avLst/>
            <a:gdLst>
              <a:gd name="textAreaLeft" fmla="*/ 37080 w 4319280"/>
              <a:gd name="textAreaRight" fmla="*/ 4282200 w 43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61784" h="21600">
                <a:moveTo>
                  <a:pt x="0" y="0"/>
                </a:moveTo>
                <a:lnTo>
                  <a:pt x="161784" y="0"/>
                </a:lnTo>
                <a:lnTo>
                  <a:pt x="161784" y="21600"/>
                </a:lnTo>
                <a:lnTo>
                  <a:pt x="0" y="21600"/>
                </a:lnTo>
                <a:close/>
              </a:path>
              <a:path fill="lightenLess" w="161784" h="21600">
                <a:moveTo>
                  <a:pt x="0" y="0"/>
                </a:moveTo>
                <a:lnTo>
                  <a:pt x="161784" y="0"/>
                </a:lnTo>
                <a:lnTo>
                  <a:pt x="160384" y="1400"/>
                </a:lnTo>
                <a:lnTo>
                  <a:pt x="1400" y="1400"/>
                </a:lnTo>
                <a:close/>
              </a:path>
              <a:path fill="darken" w="161784" h="21600">
                <a:moveTo>
                  <a:pt x="161784" y="0"/>
                </a:moveTo>
                <a:lnTo>
                  <a:pt x="161784" y="21600"/>
                </a:lnTo>
                <a:lnTo>
                  <a:pt x="160384" y="20200"/>
                </a:lnTo>
                <a:lnTo>
                  <a:pt x="160384" y="1400"/>
                </a:lnTo>
                <a:close/>
              </a:path>
              <a:path fill="darkenLess" w="161784" h="21600">
                <a:moveTo>
                  <a:pt x="16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84" y="20200"/>
                </a:lnTo>
                <a:close/>
              </a:path>
              <a:path fill="lighten" w="16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. КЛЕТОЧНАЯ ТЕ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997360"/>
            <a:ext cx="4319280" cy="576000"/>
          </a:xfrm>
          <a:custGeom>
            <a:avLst/>
            <a:gdLst>
              <a:gd name="textAreaLeft" fmla="*/ 37080 w 4319280"/>
              <a:gd name="textAreaRight" fmla="*/ 4282200 w 431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61885" h="21600">
                <a:moveTo>
                  <a:pt x="0" y="0"/>
                </a:moveTo>
                <a:lnTo>
                  <a:pt x="161885" y="0"/>
                </a:lnTo>
                <a:lnTo>
                  <a:pt x="161885" y="21600"/>
                </a:lnTo>
                <a:lnTo>
                  <a:pt x="0" y="21600"/>
                </a:lnTo>
                <a:close/>
              </a:path>
              <a:path fill="lightenLess" w="161885" h="21600">
                <a:moveTo>
                  <a:pt x="0" y="0"/>
                </a:moveTo>
                <a:lnTo>
                  <a:pt x="161885" y="0"/>
                </a:lnTo>
                <a:lnTo>
                  <a:pt x="160485" y="1400"/>
                </a:lnTo>
                <a:lnTo>
                  <a:pt x="1400" y="1400"/>
                </a:lnTo>
                <a:close/>
              </a:path>
              <a:path fill="darken" w="161885" h="21600">
                <a:moveTo>
                  <a:pt x="161885" y="0"/>
                </a:moveTo>
                <a:lnTo>
                  <a:pt x="161885" y="21600"/>
                </a:lnTo>
                <a:lnTo>
                  <a:pt x="160485" y="20200"/>
                </a:lnTo>
                <a:lnTo>
                  <a:pt x="160485" y="1400"/>
                </a:lnTo>
                <a:close/>
              </a:path>
              <a:path fill="darkenLess" w="161885" h="21600">
                <a:moveTo>
                  <a:pt x="161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485" y="20200"/>
                </a:lnTo>
                <a:close/>
              </a:path>
              <a:path fill="lighten" w="161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3. КЛЕТОЧНАЯ МЕМБР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573360"/>
            <a:ext cx="4319280" cy="576360"/>
          </a:xfrm>
          <a:custGeom>
            <a:avLst/>
            <a:gdLst>
              <a:gd name="textAreaLeft" fmla="*/ 37080 w 4319280"/>
              <a:gd name="textAreaRight" fmla="*/ 4282200 w 43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61784" h="21600">
                <a:moveTo>
                  <a:pt x="0" y="0"/>
                </a:moveTo>
                <a:lnTo>
                  <a:pt x="161784" y="0"/>
                </a:lnTo>
                <a:lnTo>
                  <a:pt x="161784" y="21600"/>
                </a:lnTo>
                <a:lnTo>
                  <a:pt x="0" y="21600"/>
                </a:lnTo>
                <a:close/>
              </a:path>
              <a:path fill="lightenLess" w="161784" h="21600">
                <a:moveTo>
                  <a:pt x="0" y="0"/>
                </a:moveTo>
                <a:lnTo>
                  <a:pt x="161784" y="0"/>
                </a:lnTo>
                <a:lnTo>
                  <a:pt x="160384" y="1400"/>
                </a:lnTo>
                <a:lnTo>
                  <a:pt x="1400" y="1400"/>
                </a:lnTo>
                <a:close/>
              </a:path>
              <a:path fill="darken" w="161784" h="21600">
                <a:moveTo>
                  <a:pt x="161784" y="0"/>
                </a:moveTo>
                <a:lnTo>
                  <a:pt x="161784" y="21600"/>
                </a:lnTo>
                <a:lnTo>
                  <a:pt x="160384" y="20200"/>
                </a:lnTo>
                <a:lnTo>
                  <a:pt x="160384" y="1400"/>
                </a:lnTo>
                <a:close/>
              </a:path>
              <a:path fill="darkenLess" w="161784" h="21600">
                <a:moveTo>
                  <a:pt x="16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84" y="20200"/>
                </a:lnTo>
                <a:close/>
              </a:path>
              <a:path fill="lighten" w="16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4. 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149720"/>
            <a:ext cx="4319280" cy="934920"/>
          </a:xfrm>
          <a:custGeom>
            <a:avLst/>
            <a:gdLst>
              <a:gd name="textAreaLeft" fmla="*/ 60480 w 4319280"/>
              <a:gd name="textAreaRight" fmla="*/ 4258800 w 43192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99761" h="21600">
                <a:moveTo>
                  <a:pt x="0" y="0"/>
                </a:moveTo>
                <a:lnTo>
                  <a:pt x="99761" y="0"/>
                </a:lnTo>
                <a:lnTo>
                  <a:pt x="99761" y="21600"/>
                </a:lnTo>
                <a:lnTo>
                  <a:pt x="0" y="21600"/>
                </a:lnTo>
                <a:close/>
              </a:path>
              <a:path fill="lightenLess" w="99761" h="21600">
                <a:moveTo>
                  <a:pt x="0" y="0"/>
                </a:moveTo>
                <a:lnTo>
                  <a:pt x="99761" y="0"/>
                </a:lnTo>
                <a:lnTo>
                  <a:pt x="98361" y="1400"/>
                </a:lnTo>
                <a:lnTo>
                  <a:pt x="1400" y="1400"/>
                </a:lnTo>
                <a:close/>
              </a:path>
              <a:path fill="darken" w="99761" h="21600">
                <a:moveTo>
                  <a:pt x="99761" y="0"/>
                </a:moveTo>
                <a:lnTo>
                  <a:pt x="99761" y="21600"/>
                </a:lnTo>
                <a:lnTo>
                  <a:pt x="98361" y="20200"/>
                </a:lnTo>
                <a:lnTo>
                  <a:pt x="98361" y="1400"/>
                </a:lnTo>
                <a:close/>
              </a:path>
              <a:path fill="darkenLess" w="99761" h="21600">
                <a:moveTo>
                  <a:pt x="99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61" y="20200"/>
                </a:lnTo>
                <a:close/>
              </a:path>
              <a:path fill="lighten" w="99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. ЭНДОПЛАЗМАТИЧЕСКАЯ СЕ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РИБОСОМЫ. АППАРАТ ГОЛЬ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084640"/>
            <a:ext cx="4319280" cy="936720"/>
          </a:xfrm>
          <a:custGeom>
            <a:avLst/>
            <a:gdLst>
              <a:gd name="textAreaLeft" fmla="*/ 60480 w 4319280"/>
              <a:gd name="textAreaRight" fmla="*/ 4258800 w 4319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9569" h="21600">
                <a:moveTo>
                  <a:pt x="0" y="0"/>
                </a:moveTo>
                <a:lnTo>
                  <a:pt x="99569" y="0"/>
                </a:lnTo>
                <a:lnTo>
                  <a:pt x="99569" y="21600"/>
                </a:lnTo>
                <a:lnTo>
                  <a:pt x="0" y="21600"/>
                </a:lnTo>
                <a:close/>
              </a:path>
              <a:path fill="lightenLess" w="99569" h="21600">
                <a:moveTo>
                  <a:pt x="0" y="0"/>
                </a:moveTo>
                <a:lnTo>
                  <a:pt x="99569" y="0"/>
                </a:lnTo>
                <a:lnTo>
                  <a:pt x="98169" y="1400"/>
                </a:lnTo>
                <a:lnTo>
                  <a:pt x="1400" y="1400"/>
                </a:lnTo>
                <a:close/>
              </a:path>
              <a:path fill="darken" w="99569" h="21600">
                <a:moveTo>
                  <a:pt x="99569" y="0"/>
                </a:moveTo>
                <a:lnTo>
                  <a:pt x="99569" y="21600"/>
                </a:lnTo>
                <a:lnTo>
                  <a:pt x="98169" y="20200"/>
                </a:lnTo>
                <a:lnTo>
                  <a:pt x="98169" y="1400"/>
                </a:lnTo>
                <a:close/>
              </a:path>
              <a:path fill="darkenLess" w="99569" h="21600">
                <a:moveTo>
                  <a:pt x="99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169" y="20200"/>
                </a:lnTo>
                <a:close/>
              </a:path>
              <a:path fill="lighten" w="99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6. ЛИЗОСОМЫ. МИТОХОНР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ПЛАС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89000"/>
            <a:ext cx="4103640" cy="503280"/>
          </a:xfrm>
          <a:custGeom>
            <a:avLst/>
            <a:gdLst>
              <a:gd name="textAreaLeft" fmla="*/ 32400 w 4103640"/>
              <a:gd name="textAreaRight" fmla="*/ 4071240 w 410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76011" h="21600">
                <a:moveTo>
                  <a:pt x="0" y="0"/>
                </a:moveTo>
                <a:lnTo>
                  <a:pt x="176011" y="0"/>
                </a:lnTo>
                <a:lnTo>
                  <a:pt x="176011" y="21600"/>
                </a:lnTo>
                <a:lnTo>
                  <a:pt x="0" y="21600"/>
                </a:lnTo>
                <a:close/>
              </a:path>
              <a:path fill="lightenLess" w="176011" h="21600">
                <a:moveTo>
                  <a:pt x="0" y="0"/>
                </a:moveTo>
                <a:lnTo>
                  <a:pt x="176011" y="0"/>
                </a:lnTo>
                <a:lnTo>
                  <a:pt x="174612" y="1400"/>
                </a:lnTo>
                <a:lnTo>
                  <a:pt x="1400" y="1400"/>
                </a:lnTo>
                <a:close/>
              </a:path>
              <a:path fill="darken" w="176011" h="21600">
                <a:moveTo>
                  <a:pt x="176011" y="0"/>
                </a:moveTo>
                <a:lnTo>
                  <a:pt x="176011" y="21600"/>
                </a:lnTo>
                <a:lnTo>
                  <a:pt x="174612" y="20200"/>
                </a:lnTo>
                <a:lnTo>
                  <a:pt x="174612" y="1400"/>
                </a:lnTo>
                <a:close/>
              </a:path>
              <a:path fill="darkenLess" w="176011" h="21600">
                <a:moveTo>
                  <a:pt x="176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4612" y="20200"/>
                </a:lnTo>
                <a:close/>
              </a:path>
              <a:path fill="lighten" w="176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7.ЭУКАРИОТЫ и ПРОКАРИ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916280"/>
            <a:ext cx="0" cy="4105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2492280"/>
            <a:ext cx="4105080" cy="1152720"/>
          </a:xfrm>
          <a:custGeom>
            <a:avLst/>
            <a:gdLst>
              <a:gd name="textAreaLeft" fmla="*/ 74520 w 4105080"/>
              <a:gd name="textAreaRight" fmla="*/ 4030560 w 4105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76905" h="21600">
                <a:moveTo>
                  <a:pt x="0" y="0"/>
                </a:moveTo>
                <a:lnTo>
                  <a:pt x="76905" y="0"/>
                </a:lnTo>
                <a:lnTo>
                  <a:pt x="76905" y="21600"/>
                </a:lnTo>
                <a:lnTo>
                  <a:pt x="0" y="21600"/>
                </a:lnTo>
                <a:close/>
              </a:path>
              <a:path fill="lightenLess" w="76905" h="21600">
                <a:moveTo>
                  <a:pt x="0" y="0"/>
                </a:moveTo>
                <a:lnTo>
                  <a:pt x="76905" y="0"/>
                </a:lnTo>
                <a:lnTo>
                  <a:pt x="75505" y="1400"/>
                </a:lnTo>
                <a:lnTo>
                  <a:pt x="1400" y="1400"/>
                </a:lnTo>
                <a:close/>
              </a:path>
              <a:path fill="darken" w="76905" h="21600">
                <a:moveTo>
                  <a:pt x="76905" y="0"/>
                </a:moveTo>
                <a:lnTo>
                  <a:pt x="76905" y="21600"/>
                </a:lnTo>
                <a:lnTo>
                  <a:pt x="75505" y="20200"/>
                </a:lnTo>
                <a:lnTo>
                  <a:pt x="75505" y="1400"/>
                </a:lnTo>
                <a:close/>
              </a:path>
              <a:path fill="darkenLess" w="76905" h="21600">
                <a:moveTo>
                  <a:pt x="7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505" y="20200"/>
                </a:lnTo>
                <a:close/>
              </a:path>
              <a:path fill="lighten" w="7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8. АССИМИЛЯ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ДИССИМИЛЯ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МЕТАБО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645000"/>
            <a:ext cx="4103640" cy="576000"/>
          </a:xfrm>
          <a:custGeom>
            <a:avLst/>
            <a:gdLst>
              <a:gd name="textAreaLeft" fmla="*/ 37080 w 4103640"/>
              <a:gd name="textAreaRight" fmla="*/ 4066560 w 410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53804" h="21600">
                <a:moveTo>
                  <a:pt x="0" y="0"/>
                </a:moveTo>
                <a:lnTo>
                  <a:pt x="153804" y="0"/>
                </a:lnTo>
                <a:lnTo>
                  <a:pt x="153804" y="21600"/>
                </a:lnTo>
                <a:lnTo>
                  <a:pt x="0" y="21600"/>
                </a:lnTo>
                <a:close/>
              </a:path>
              <a:path fill="lightenLess" w="153804" h="21600">
                <a:moveTo>
                  <a:pt x="0" y="0"/>
                </a:moveTo>
                <a:lnTo>
                  <a:pt x="153804" y="0"/>
                </a:lnTo>
                <a:lnTo>
                  <a:pt x="152404" y="1400"/>
                </a:lnTo>
                <a:lnTo>
                  <a:pt x="1400" y="1400"/>
                </a:lnTo>
                <a:close/>
              </a:path>
              <a:path fill="darken" w="153804" h="21600">
                <a:moveTo>
                  <a:pt x="153804" y="0"/>
                </a:moveTo>
                <a:lnTo>
                  <a:pt x="153804" y="21600"/>
                </a:lnTo>
                <a:lnTo>
                  <a:pt x="152404" y="20200"/>
                </a:lnTo>
                <a:lnTo>
                  <a:pt x="152404" y="1400"/>
                </a:lnTo>
                <a:close/>
              </a:path>
              <a:path fill="darkenLess" w="153804" h="21600">
                <a:moveTo>
                  <a:pt x="15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04" y="20200"/>
                </a:lnTo>
                <a:close/>
              </a:path>
              <a:path fill="lighten" w="15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9. ФОТОСИНТЕЗ, ХЕМОСИНТ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4221000"/>
            <a:ext cx="4103640" cy="576360"/>
          </a:xfrm>
          <a:custGeom>
            <a:avLst/>
            <a:gdLst>
              <a:gd name="textAreaLeft" fmla="*/ 37080 w 4103640"/>
              <a:gd name="textAreaRight" fmla="*/ 4066560 w 410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53708" h="21600">
                <a:moveTo>
                  <a:pt x="0" y="0"/>
                </a:moveTo>
                <a:lnTo>
                  <a:pt x="153708" y="0"/>
                </a:lnTo>
                <a:lnTo>
                  <a:pt x="153708" y="21600"/>
                </a:lnTo>
                <a:lnTo>
                  <a:pt x="0" y="21600"/>
                </a:lnTo>
                <a:close/>
              </a:path>
              <a:path fill="lightenLess" w="153708" h="21600">
                <a:moveTo>
                  <a:pt x="0" y="0"/>
                </a:moveTo>
                <a:lnTo>
                  <a:pt x="153708" y="0"/>
                </a:lnTo>
                <a:lnTo>
                  <a:pt x="152308" y="1400"/>
                </a:lnTo>
                <a:lnTo>
                  <a:pt x="1400" y="1400"/>
                </a:lnTo>
                <a:close/>
              </a:path>
              <a:path fill="darken" w="153708" h="21600">
                <a:moveTo>
                  <a:pt x="153708" y="0"/>
                </a:moveTo>
                <a:lnTo>
                  <a:pt x="153708" y="21600"/>
                </a:lnTo>
                <a:lnTo>
                  <a:pt x="152308" y="20200"/>
                </a:lnTo>
                <a:lnTo>
                  <a:pt x="152308" y="1400"/>
                </a:lnTo>
                <a:close/>
              </a:path>
              <a:path fill="darkenLess" w="153708" h="21600">
                <a:moveTo>
                  <a:pt x="153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308" y="20200"/>
                </a:lnTo>
                <a:close/>
              </a:path>
              <a:path fill="lighten" w="153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0. ГЕНЕТИЧЕСКИЙ К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4797360"/>
            <a:ext cx="4103640" cy="576360"/>
          </a:xfrm>
          <a:custGeom>
            <a:avLst/>
            <a:gdLst>
              <a:gd name="textAreaLeft" fmla="*/ 37080 w 4103640"/>
              <a:gd name="textAreaRight" fmla="*/ 4066560 w 410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53708" h="21600">
                <a:moveTo>
                  <a:pt x="0" y="0"/>
                </a:moveTo>
                <a:lnTo>
                  <a:pt x="153708" y="0"/>
                </a:lnTo>
                <a:lnTo>
                  <a:pt x="153708" y="21600"/>
                </a:lnTo>
                <a:lnTo>
                  <a:pt x="0" y="21600"/>
                </a:lnTo>
                <a:close/>
              </a:path>
              <a:path fill="lightenLess" w="153708" h="21600">
                <a:moveTo>
                  <a:pt x="0" y="0"/>
                </a:moveTo>
                <a:lnTo>
                  <a:pt x="153708" y="0"/>
                </a:lnTo>
                <a:lnTo>
                  <a:pt x="152308" y="1400"/>
                </a:lnTo>
                <a:lnTo>
                  <a:pt x="1400" y="1400"/>
                </a:lnTo>
                <a:close/>
              </a:path>
              <a:path fill="darken" w="153708" h="21600">
                <a:moveTo>
                  <a:pt x="153708" y="0"/>
                </a:moveTo>
                <a:lnTo>
                  <a:pt x="153708" y="21600"/>
                </a:lnTo>
                <a:lnTo>
                  <a:pt x="152308" y="20200"/>
                </a:lnTo>
                <a:lnTo>
                  <a:pt x="152308" y="1400"/>
                </a:lnTo>
                <a:close/>
              </a:path>
              <a:path fill="darkenLess" w="153708" h="21600">
                <a:moveTo>
                  <a:pt x="153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308" y="20200"/>
                </a:lnTo>
                <a:close/>
              </a:path>
              <a:path fill="lighten" w="153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1. МИТ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ffff"/>
                </a:solidFill>
                <a:uFillTx/>
                <a:latin typeface="Comic Sans MS"/>
              </a:rPr>
              <a:t>ЛИЗОСОМЫ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ЛИЗОСОМЫ (от лиз и греч. soma — тело), структуры в клетках животных и растительных организмов, содержащие ферменты, способные расщеплять (т. е лизировать — отсюда и название) белки, полисахариды, пептиды, нуклеиновые кисл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сновная  роль — участие в процессах внутриклеточного расщепления как экзогенных, так и эндогенных биологических макромолекул. Характерной чертой лизосом является то, что они содержат около 40 гидролитических ферментов: протеиназы, нуклеазы, фосфатазы, гликозидазы и др., оптимум действия которых осуществляется при рН5. В лизосомах кислое значение среды создается из-за наличия в их мембранах протоновой «помпы», потребляющей энергию АТ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летки эукариот состоят из трех неразрывно связанных друг с другом частей: клеточной оболочки, цитоплазмы и ядра. В ядре заключены хромосомы, состоящие из молекул ДНК. Кроме того, в цитоплазме расположены клеточные органоиды, имеющие собственную плазматическую мембрану: митохондрии, пластиды, эндоплазматическая сеть, аппарат Гольд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9320" y="1628640"/>
            <a:ext cx="394632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МИТОХОНДРИ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Comic Sans MS"/>
              </a:rPr>
              <a:t>МИТОХОНДРИИ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(от греч. mitos — нить и chondrion — зернышко, крупинка), органеллы животных и растительных клеток. В митохондрии протекают окислительно-восстановительные реакции, обеспечивающие клетки энергией. Число митохондрий в одной клетке от единиц до нескольких тысяч. У прокариот отсутствуют (их функцию выполняет клеточная мембрана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ПЛАСТИД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421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ЛАСТИД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от греч. plastos — вылепленный), цитоплазматические органоиды растительных клеток. Нередко содержат пигменты, обусловливающие окраску пластиды. У высших растений зеленые пластиды — хлоропласты, бесцветные — лейкопласты, различно окрашенные — хромопласты; у большинства водорослей пластиды называют хроматоф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459640" y="33336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33336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Пластиды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 зависимости от типа пластид органы растений имеют разную окраску: зеленый цвет придают хлоропласты, красный и желтый цвет зависит от наличия хромопластов, неокрашенные части растений содержат лейкопла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348080" cy="48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Строение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хлоропласт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1773" t="4914" r="1539" b="4914"/>
          <a:stretch/>
        </p:blipFill>
        <p:spPr>
          <a:xfrm>
            <a:off x="250920" y="1052640"/>
            <a:ext cx="4265640" cy="5057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троение хлоропласта: 1 — тилакоид стромы (фрет); 2 — внешняя мембрана; 3 — тилакоид граны; 4 — внутренняя мембра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ОРГАНОИ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РГАНОИДЫ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(от орган и греч. eidos — вид), постоянные специализированные структуры в клетках животных и растений. К органоидам относят хромосомы, митохондрии, аппарат Гольджи, эндоплазматическую сеть, рибосомы и др., а в растительных клетках, кроме того, пластиды. Часто органоиды называют также органел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ЭУКАРИОТ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mic Sans MS"/>
              </a:rPr>
              <a:t>ЭУКАРИОТЫ</a:t>
            </a: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(эвкариоты) (от греч. eu — хорошо, полностью и karyon — ядро), организмы (все, кроме бактерий, включая цианобактерии), обладающие, в отличие от прокариот, оформленным клеточным ядром, отграниченным от цитоплазмы ядерной оболочкой. Генетический материал заключен в хромосомах. Клетки эукариоты имеют митохондрии, пластиды и другие органоиды. Характерен половой процесс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Обобщенная схема строения эукарио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летки эукариот состоят из трех неразрывно связанных друг с другом частей: клеточной оболочки, цитоплазмы и ядра. В ядре заключены хромосомы, состоящие из молекул ДНК. Кроме того, в цитоплазме расположены клеточные органоиды, имеющие собственную плазматическую мембрану: митохондрии, пластиды, эндоплазматическая сеть, аппарат Гольд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13270" t="9403" r="15607" b="10918"/>
          <a:stretch/>
        </p:blipFill>
        <p:spPr>
          <a:xfrm>
            <a:off x="5003640" y="1844640"/>
            <a:ext cx="3767400" cy="419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8459640" y="333360"/>
          <a:ext cx="3812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33336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ПРОКАРИО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ОКАРИОТЫ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(от лат. pro — вперед, вместо и греч. karyon — ядро), организмы, не обладающие, в отличие от эукариот, оформленным клеточным ядром. Генетический материал в виде кольцевой цепи ДНК лежит свободно в нуклеотиде и не образует настоящих хромосом. Типичный половой процесс отсутствует. К прокариотам относятся бактерии, в т. ч. цианобактерии (сине-зеленые водоросли). В системе органического мира прокариоты составляют надцар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КЛЕТ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325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КЛЕТКА, элементарная живая система, основа строения и жизнедеятельности всех животных и растений. Клетки существуют как самостоятельные организмы (напр., простейшие, бактерии). Размеры клетки варьируют в пределах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0,1-0,25 мкм (некоторые бактерии) до 155 мм (яйцо страуса в скорлуп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 человека в организме новорожденного ок. 2·1012. В каждой клетке различают 2 основные части: ядро и цитоплазму. Наука о клетке — цит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ССИМИЛЯЦИЯ (от лат. assimilati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7084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ссимиляция-анаболизм. В более узком смысле — усвоение питательных веществ живыми клетками (фотосинтез, корневая абсорбция и т. 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Фотосинтез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АНАБОЛИЗМ (от греч. anabole — подъем) (ассимиляция), совокупность химических процессов в живом организме, направленных на образование и обновление структурных частей клеток и тканей. Наиболее важный процесс анаболизма, имеющий планетарное значение, — фотосинте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427280" cy="390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ДИССИМИЛЯЦИЯ (от лат. dissimilis — несходный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70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Другое название диссимиляции-катаболизм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Катаболизм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КАТАБОЛИЗМ (от греч. katabole — сбрасывание, разрушение) (диссимиляция), совокупность протекающих в живом организме ферментативных реакций расщепления сложных органических веществ (в т. ч. пищевых). В процессе катаболизма происходит освобождение энергии, заключенной в химических связях крупных органических молекул, и запасание ее в форме богатых энергией фосфатных связей аденозинтрифосфата (АТФ). Катаболические процессы — дыхание, гликолиз, брожение. Основные конечные продукты катаболизма — вода, CO2 и NH3, мочевина, молочная кисл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459640" y="33336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33336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Метаболизм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421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ОБМЕН ВЕЩЕСТВ (метаболизм), совокупность всех химических изменений и всех видов превращений веществ и энергии в организмах, обеспечивающих развитие, жизнедеятельность и самовоспроизведение организмов, их связь с окружающей средой и адаптацию к изменениям внешних условий. Основу обмена веществ составляют взаимосвязанные процессы анаболизма и катаболизма, направленные на непрерывное обновление живого материала и обеспечение его необходимой энергией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Обмен веществ в клетк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Обмен веществ в клетке включает поглощение, превращение и выделение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38520" y="1197000"/>
            <a:ext cx="439920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ХЕМОСИНТЕ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ХЕМОСИНТЕ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от хемо... и синтез), процесс образования некоторыми бактериями органических веществ из диоксида углерода за счет энергии, полученной при окислении неорганических соединений (аммиака, водорода, соединений серы, закисного железа и др.). Хемосинтез открыт в 1887 С. Н. Виноград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459640" y="33336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9640" y="33336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Из истории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152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Comic Sans MS"/>
              </a:rPr>
              <a:t>ВИНОГРАДСКИЙ Сергей Николаевич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(1856-1953), российский микробиолог, один из основоположников отечественной микробиологии, член-корреспондент РАН (1917; член-корреспондент Петербургской АН с 1894), почетный член РАН (1923). С 1922 руководитель Агробактериологического отделения Пастеровского института в Париже. Открыл (1887) хемоавтотрофные микроорганизмы и явление хемосинтеза. Впервые (1893) выделил из почвы азотфиксирующие бактери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88360" y="404640"/>
          <a:ext cx="380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40464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КОД ГЕНЕТИЧЕСКИ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КОД ГЕНЕТИЧЕСКИЙ, свойственная живым организмам единая система «записи» наследственной информации в молекулах нуклеиновых кислот в виде последовательности нуклеоти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28000" y="5229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Less" w="21600" h="24036">
                <a:moveTo>
                  <a:pt x="5273" y="5203"/>
                </a:moveTo>
                <a:lnTo>
                  <a:pt x="12271" y="5203"/>
                </a:lnTo>
                <a:lnTo>
                  <a:pt x="16327" y="8702"/>
                </a:lnTo>
                <a:lnTo>
                  <a:pt x="16327" y="18833"/>
                </a:lnTo>
                <a:lnTo>
                  <a:pt x="5273" y="18833"/>
                </a:lnTo>
                <a:close/>
              </a:path>
              <a:path fill="darken" w="21600" h="24036">
                <a:moveTo>
                  <a:pt x="12271" y="5203"/>
                </a:moveTo>
                <a:lnTo>
                  <a:pt x="16327" y="8702"/>
                </a:lnTo>
                <a:lnTo>
                  <a:pt x="12271" y="870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244000" y="620640"/>
          <a:ext cx="38088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00" y="62064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ГЕНЕТИЧЕСКИЙ К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46083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 (A) — аденин, Г (G) — гуанин, Ц (C) — цитозин, в ДНК Т (T) — тимин, в мРНК У (U) — урацил. Последовательность из трех букв в кодонах и представляет графическое выражение кода генетического. Реализация кода генетического в клетке происходит в 2 этапа. Первый (транскрипция) протекает в ядре и заключается в синтезе молекул матричной, или информационной, рибонуклеиновой кислоты (мРНК) на соответствующих участках ДН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6480" y="1828440"/>
            <a:ext cx="406224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следовательность нуклеотидов ДНК «переписывается» в нуклеотидную последовательность мРНК. Второй этап (трансляция) протекает в цитоплазме на рибосомах; при этом последовательность нуклеотидов мРНК переводится в последовательность аминокислот в синтезирующемся бе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Митоз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35156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МИТОЗ (от греч. mitos — нить), способ деления ядер клеток, обеспечивающий тождественное распределение генетического материала между дочерними клетками и преемственность хромосом в ряду клеточных поко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7956720" y="522936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476280"/>
            <a:ext cx="835164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Процесс митоза на примере растительной клетки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 время деления близко, хромосомы становятся толще, а ядерная мембрана и ядрышки становятся невидимыми и распадают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зуются нити, которые скручиваются в виде веретена деления клет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лекулы ДНК удваивают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омосомы двигаются к веретену,  расщепляются на хроматиды, и каждая пара расходится к противоположным полюсам клет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ти веретена прикрепляются к хроматидам, сокращаются и отводят хромосомы от цен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боих полюсах клетки образуются одинаковые хромосомы. На обоих полюсах клетки образуются ядрышки и ядерные мембра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овременно в растительной клетке вокруг экватора веретена образуется клеточная пластинка. Она постепенно делит цитоплазму на две ч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онце концов из одной клетки образуются две с тем же набором хромосом, что и материнская клетка вначале. Дочерние клетки вступают в период спокойного состояния — интерфаз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1268280"/>
            <a:ext cx="0" cy="2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177336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220500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6000" y="299736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71628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443700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515772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496360" y="6210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532720" y="18900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2720" y="18900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-149400"/>
            <a:ext cx="9144000" cy="682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8763120" y="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63120" y="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КЛЕТОЧНАЯ ТЕО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4212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КЛЕТОЧНАЯ ТЕОРИЯ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одно из крупных биологических обобщений, утверждающее общность происхождения, а также единство принципа строения и развития организмов; согласно клеточной теории, их основной структурный элемент — клетка. Клеточная теория впервые сформулирована Т. Шванном (1838-39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8360" y="404640"/>
          <a:ext cx="380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404640"/>
                    <a:ext cx="38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Развитие представлений о клеточном строении растений: 1 — клетки-пустоты в непрерывном растительном веществе. 2 — стенки клеток или пузырьков построены из переплетённых волокон, образующих ткань; 3 — клетки-камеры, имеющие общую стенку ; 4 —  клеточная оболочка; 5 — образователь клетки — ядро («цитобласт»), 6 — клетки, состоящие из протоплазмы и я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08600" y="981000"/>
            <a:ext cx="5135400" cy="5184720"/>
            <a:chOff x="4008600" y="981000"/>
            <a:chExt cx="5135400" cy="51847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008600" y="981000"/>
              <a:ext cx="513540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008600" y="981000"/>
              <a:ext cx="5135400" cy="51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99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2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Основные положения клеточной теор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Все живые существа, от одноклеточных до крупных растительных и животных организмов, состоят из клеток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Все клетки сходны по строению, химическому составу и жизненным функци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Отдельные клетки специализируются на выполнении какой-то определенной «работы», они способны к самостоятельной жизнедеятельности, т.е. могут питаться,расти,размножать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Все клетки образуются из клетк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Клеточная мембр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4944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КЛЕТОЧНАЯ МЕМБРА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то же, что плазматическая мембр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ЛАЗМАТИЧЕСКАЯ МЕМБРА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плазмалемма, клеточная мембрана), поверхностная, периферическая структура, окружающая протоплазму растительных и животных клеток. Как и другие мембраны клетки, она возникает и обновляется за счет синтетической активности эндоплазматического ретикулюма и имеет сходное с ними стро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101080" y="5445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939" h="21600">
                <a:moveTo>
                  <a:pt x="7943" y="3985"/>
                </a:moveTo>
                <a:lnTo>
                  <a:pt x="14941" y="3985"/>
                </a:lnTo>
                <a:lnTo>
                  <a:pt x="18997" y="7484"/>
                </a:lnTo>
                <a:lnTo>
                  <a:pt x="18997" y="17615"/>
                </a:lnTo>
                <a:lnTo>
                  <a:pt x="7943" y="17615"/>
                </a:lnTo>
                <a:close/>
              </a:path>
              <a:path fill="darken" w="26939" h="21600">
                <a:moveTo>
                  <a:pt x="14941" y="3985"/>
                </a:moveTo>
                <a:lnTo>
                  <a:pt x="18997" y="7484"/>
                </a:lnTo>
                <a:lnTo>
                  <a:pt x="14941" y="748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724000" y="1828800"/>
            <a:ext cx="30956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Толщина плазматической мембраны в клетках составляет 8 нм. Она состоит из сплошного двойного слоя липидных молекул. Молекулы белков встраиваются в слой липидов, располагаясь как на его внешней и внутренней поверхностях, так и в его тол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743120"/>
            <a:ext cx="5760720" cy="430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9640" y="404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Плазматическая мембра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7:36:22Z</dcterms:created>
  <dc:creator>Стукало Владимир Леонидович</dc:creator>
  <dc:description/>
  <dc:language>en-US</dc:language>
  <cp:lastModifiedBy>Customer</cp:lastModifiedBy>
  <dcterms:modified xsi:type="dcterms:W3CDTF">2012-02-11T16:57:14Z</dcterms:modified>
  <cp:revision>12</cp:revision>
  <dc:subject/>
  <dc:title>    Презентация по теме: «Уровни организации живой природы. Клеточный уровень»</dc:title>
</cp:coreProperties>
</file>