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AEF11-92F4-448E-B59E-368469F3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0BBB-AA8C-4A5A-A245-1A019C53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529DD-651B-4575-A04D-BC98750A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C580-0121-4766-A71D-BA4254E4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A4C9-30CC-45C4-A81E-0BF876EE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1A8D-B10D-4142-AD53-AF12BA93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F110-3B72-4F16-A526-715C72CA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6D83-05A4-4415-8082-B4C44EB7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E83B-A50F-4113-BAE5-0DD7A265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643B-114C-40DF-86FE-1F90B54F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BC5F-59AE-4EB5-991E-6C504157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2D1C-3597-4889-83EE-FFAB566F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48AF-EA81-489D-B52C-E9AF58F8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10C1-8FAC-449C-A58A-D418FC50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FA26-5548-4079-97C7-A62646AE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BED5-7E98-46AA-BFCE-1DBB002A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D3BF-25F0-471C-BF92-1D2AE7C4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F64C-1F2A-4669-88FE-1358240B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B745-D42A-4B67-B9A7-83C9C660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46C69-C907-4D1D-85E3-E9EC558A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C4F7B-E7E8-4DC0-8C26-DD6946EB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8AC9-5DA2-4CCF-9FC9-B938324D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B0D0-F5D2-4100-9505-09C5C22D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A3799-4B8E-4AEB-B64E-9347A428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626D-2691-48A7-B03B-F16428EB34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0662-7258-45B3-8115-D46D5949CB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43;&#1080;&#1087;&#1077;&#1088;&#1089;&#1089;&#1099;&#1083;&#1082;&#1080;/&#1052;&#1048;&#1058;&#1054;&#1061;&#1054;&#1053;&#1044;&#1056;&#1048;&#1048;.ppt" TargetMode="External"/><Relationship Id="rId3" Type="http://schemas.openxmlformats.org/officeDocument/2006/relationships/hyperlink" Target="file:///&#1043;&#1080;&#1087;&#1077;&#1088;&#1089;&#1089;&#1099;&#1083;&#1082;&#1080;/&#1071;&#1044;&#1056;&#1054;.ppt" TargetMode="External"/><Relationship Id="rId4" Type="http://schemas.openxmlformats.org/officeDocument/2006/relationships/hyperlink" Target="file:///&#1043;&#1080;&#1087;&#1077;&#1088;&#1089;&#1089;&#1099;&#1083;&#1082;&#1080;/&#1056;&#1048;&#1041;&#1054;&#1057;&#1054;&#1052;&#1067;.ppt" TargetMode="External"/><Relationship Id="rId5" Type="http://schemas.openxmlformats.org/officeDocument/2006/relationships/hyperlink" Target="file:///&#1043;&#1080;&#1087;&#1077;&#1088;&#1089;&#1089;&#1099;&#1083;&#1082;&#1080;/&#1062;&#1080;&#1090;&#1086;&#1087;&#1083;&#1072;&#1079;&#1084;&#1072;.ppt" TargetMode="External"/><Relationship Id="rId6" Type="http://schemas.openxmlformats.org/officeDocument/2006/relationships/oleObject" Target="../embeddings/oleObject1.bin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643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00"/>
                </a:solidFill>
                <a:latin typeface="Garamond"/>
              </a:rPr>
              <a:t>Карта – схема электронного строения животной клетки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244000" y="404640"/>
          <a:ext cx="38088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00" y="404640"/>
                    <a:ext cx="380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164360" y="6165720"/>
            <a:ext cx="1763640" cy="40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Объект 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08720" y="4869000"/>
            <a:ext cx="18352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бъект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2997360"/>
            <a:ext cx="1763640" cy="510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Объект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2060640"/>
            <a:ext cx="183528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8720" y="1989000"/>
            <a:ext cx="1835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бъект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08720" y="1125360"/>
            <a:ext cx="1835280" cy="432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бъект 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9000"/>
            <a:ext cx="2411280" cy="368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9900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Объект 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92280"/>
            <a:ext cx="194328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бъект 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573360"/>
            <a:ext cx="1692360" cy="405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Объект 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52360" y="4941720"/>
            <a:ext cx="197964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бъект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6093000"/>
            <a:ext cx="1908000" cy="405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Объект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317080" y="260280"/>
          <a:ext cx="380880" cy="4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5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17080" y="260280"/>
                    <a:ext cx="380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2:15:12Z</dcterms:created>
  <dc:creator>User</dc:creator>
  <dc:description/>
  <dc:language>en-US</dc:language>
  <cp:lastModifiedBy>User</cp:lastModifiedBy>
  <dcterms:modified xsi:type="dcterms:W3CDTF">2007-12-18T17:56:39Z</dcterms:modified>
  <cp:revision>7</cp:revision>
  <dc:subject/>
  <dc:title>Слайд 1</dc:title>
</cp:coreProperties>
</file>