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BD17-D102-4C03-9CC7-3C3AE5A12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9B95-67A4-4BB3-8206-CB996210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16FE-93B7-4AB9-8F2E-7A9B103CE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EB40-E04D-4B64-A7B0-83D1B4667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582D-CF28-4F7F-9BD1-DC47D3434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F4AF-265B-4F3C-905C-BA521B5A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4F60-EB79-4468-920C-13A7BD8E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8F81C-C902-488D-BCE6-C7EAA768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1678-8DBF-4878-AF9B-373D480B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92DF1-C164-44FF-B4D5-B2FFB88A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3ABEB-47D8-4562-B80C-05DC8346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DFA3-FB2F-4DDC-92AE-8DFC0AF9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3692-1E31-453D-B522-FBDCFC1D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17DDB-A1FE-4FC5-89B1-B07DE526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E6E5-3E3D-4868-8846-FCB2CFA1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E0AAD-9F2E-45A5-8772-D6054E11C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57A3-373C-4B1B-B32F-AC9C58B8E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ED56-C54C-4205-8E31-23A39020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82F8-0B20-4441-8B51-59B1CBD5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A670-208E-4FD5-A044-B3F2C26A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50A1-4233-4127-9BBF-4ABE9B80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2116-7213-47F3-ADDD-432CFB51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EED0-899E-4179-908D-01F816A5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2EBB-E87C-4013-A295-D8526028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2173-5878-486E-A854-F474F1F1507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4E27-AD22-408F-8AC1-D0CFB6EF6E5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1041;&#1080;&#1086;&#1083;&#1086;&#1075;&#1080;&#1103;%20&#1043;&#1080;&#1087;&#1077;&#1088;&#1089;&#1089;&#1099;&#1083;&#1082;&#1080;/&#1071;&#1044;&#1056;&#1054;.ppt" TargetMode="External"/><Relationship Id="rId2" Type="http://schemas.openxmlformats.org/officeDocument/2006/relationships/hyperlink" Target="file:///&#1041;&#1080;&#1086;&#1083;&#1086;&#1075;&#1080;&#1103;%20&#1043;&#1080;&#1087;&#1077;&#1088;&#1089;&#1089;&#1099;&#1083;&#1082;&#1080;/&#1052;&#1048;&#1058;&#1054;&#1061;&#1054;&#1053;&#1044;&#1056;&#1048;&#1048;.ppt" TargetMode="External"/><Relationship Id="rId3" Type="http://schemas.openxmlformats.org/officeDocument/2006/relationships/hyperlink" Target="file:///&#1041;&#1080;&#1086;&#1083;&#1086;&#1075;&#1080;&#1103;%20&#1043;&#1080;&#1087;&#1077;&#1088;&#1089;&#1089;&#1099;&#1083;&#1082;&#1080;/&#1055;&#1083;&#1072;&#1089;&#1090;&#1080;&#1076;&#1099;.ppt" TargetMode="External"/><Relationship Id="rId4" Type="http://schemas.openxmlformats.org/officeDocument/2006/relationships/hyperlink" Target="file:///&#1041;&#1080;&#1086;&#1083;&#1086;&#1075;&#1080;&#1103;%20&#1043;&#1080;&#1087;&#1077;&#1088;&#1089;&#1089;&#1099;&#1083;&#1082;&#1080;/&#1040;&#1055;&#1055;&#1040;&#1056;&#1040;&#1058;%20%20&#1043;&#1054;&#1051;&#1068;&#1044;&#1046;&#1048;.ppt" TargetMode="External"/><Relationship Id="rId5" Type="http://schemas.openxmlformats.org/officeDocument/2006/relationships/hyperlink" Target="file:///&#1041;&#1080;&#1086;&#1083;&#1086;&#1075;&#1080;&#1103;%20&#1043;&#1080;&#1087;&#1077;&#1088;&#1089;&#1089;&#1099;&#1083;&#1082;&#1080;/&#1051;&#1048;&#1047;&#1054;&#1057;&#1054;&#1052;&#1067;.ppt" TargetMode="External"/><Relationship Id="rId6" Type="http://schemas.openxmlformats.org/officeDocument/2006/relationships/oleObject" Target="../embeddings/oleObject1.bin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64008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eaeaea"/>
                </a:solidFill>
                <a:uFillTx/>
                <a:latin typeface="Tahoma"/>
              </a:rPr>
              <a:t>Основные компоненты эукариотической клетк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16000" y="4723920"/>
            <a:ext cx="49687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Tahoma"/>
              </a:rPr>
              <a:t>Органоиды и органеллы клет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8388360" y="333360"/>
          <a:ext cx="38088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8360" y="333360"/>
                    <a:ext cx="3808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aeaea"/>
                </a:solidFill>
                <a:uFillTx/>
                <a:latin typeface="Comic Sans MS"/>
              </a:rPr>
              <a:t>КЛЕТ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32576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КЛЕТКА, элементарная живая система, основа строения и жизнедеятельности всех животных и растений. Клетки существуют как самостоятельные организмы (напр., простейшие, бактерии). Размеры клетки варьируют в пределах от 0,1-0,25 мкм (некоторые бактерии) до 155 мм (яйцо страуса в скорлупе)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08240" y="1981080"/>
            <a:ext cx="370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У человека в организме новорожденного около 2·10</a:t>
            </a:r>
            <a:r>
              <a:rPr b="1" lang="en-US" sz="2100" spc="-1" strike="noStrike" baseline="30000">
                <a:solidFill>
                  <a:srgbClr val="ffffff"/>
                </a:solidFill>
                <a:latin typeface="Comic Sans MS"/>
              </a:rPr>
              <a:t>12</a:t>
            </a: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. В каждой клетке различают 3 основные части: мембрану, цитоплазму, ядро. Наука о клетке — цитология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8388360" y="333360"/>
          <a:ext cx="38088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8360" y="333360"/>
                    <a:ext cx="3808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31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8459640" y="476280"/>
          <a:ext cx="381240" cy="4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9640" y="476280"/>
                    <a:ext cx="3812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31000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00000" y="333360"/>
            <a:ext cx="7250400" cy="3535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6699"/>
                </a:solidFill>
                <a:uFillTx/>
                <a:latin typeface="Tahoma"/>
              </a:rPr>
              <a:t>Органоиды</a:t>
            </a:r>
            <a:r>
              <a:rPr b="0" lang="en-US" sz="2400" spc="-1" strike="noStrike">
                <a:solidFill>
                  <a:srgbClr val="99cc00"/>
                </a:solidFill>
                <a:latin typeface="Tahoma"/>
              </a:rPr>
              <a:t> –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постоянные жизненно важные составные части цитоплазмы клеток, обеспечивающие выполнение специальных функций клетки, имеющие определенное строение и месторасположение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Органои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484000" y="3357720"/>
            <a:ext cx="1150920" cy="57600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56000" y="3429000"/>
            <a:ext cx="0" cy="129708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651640" y="3284640"/>
            <a:ext cx="792000" cy="21564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16000" y="3933720"/>
            <a:ext cx="27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Двумембра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03640" y="4653000"/>
            <a:ext cx="30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Одномембра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40360" y="335772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Немембра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71640" cy="35002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3366cc"/>
              </a:gs>
              <a:gs pos="100000">
                <a:srgbClr val="66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4365720"/>
            <a:ext cx="2016360" cy="13129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3366cc"/>
              </a:gs>
              <a:gs pos="100000">
                <a:srgbClr val="0000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Comic Sans MS"/>
                <a:hlinkClick r:id="rId1"/>
              </a:rPr>
              <a:t>Ядр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Comic Sans MS"/>
                <a:hlinkClick r:id="rId2"/>
              </a:rPr>
              <a:t>Митохонд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Comic Sans MS"/>
                <a:hlinkClick r:id="rId3"/>
              </a:rPr>
              <a:t>Пласти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71640" y="5084640"/>
            <a:ext cx="3384720" cy="12762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Comic Sans MS"/>
                <a:hlinkClick r:id="rId4"/>
              </a:rPr>
              <a:t>Аппарат Гольдж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Comic Sans MS"/>
                <a:hlinkClick r:id="rId5"/>
              </a:rPr>
              <a:t>Лизосо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ЭП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27640" y="3789360"/>
            <a:ext cx="2519640" cy="231156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100000">
                <a:srgbClr val="0000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Рибосо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Клеточный цент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Вакуо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Жгутики, реснич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Микротрубоч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8459640" y="189000"/>
          <a:ext cx="381240" cy="485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3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459640" y="189000"/>
                    <a:ext cx="3812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31000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Tahoma"/>
              </a:rPr>
              <a:t>Какие взаимосвязи существует между органоидами клетки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66680" y="1981080"/>
          <a:ext cx="7682040" cy="4341960"/>
        </p:xfrm>
        <a:graphic>
          <a:graphicData uri="http://schemas.openxmlformats.org/drawingml/2006/table">
            <a:tbl>
              <a:tblPr/>
              <a:tblGrid>
                <a:gridCol w="3659400"/>
                <a:gridCol w="40226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Систем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Характер взаимосвязи в представленных система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99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леточная мембра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100000">
                          <a:srgbClr val="66cc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мен вещест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100000">
                          <a:srgbClr val="66ccff"/>
                        </a:gs>
                      </a:gsLst>
                      <a:lin ang="81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дро          Рибосомы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100000">
                          <a:srgbClr val="66cc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дро производит рибосо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100000">
                          <a:srgbClr val="66ccff"/>
                        </a:gs>
                      </a:gsLst>
                      <a:lin ang="81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итохондрии          Бел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100000">
                          <a:srgbClr val="66cc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нергообеспеч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100000">
                          <a:srgbClr val="66ccff"/>
                        </a:gs>
                      </a:gsLst>
                      <a:lin ang="81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ПС           Цитоплаз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100000">
                          <a:srgbClr val="66cc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руктурирует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100000">
                          <a:srgbClr val="66ccff"/>
                        </a:gs>
                      </a:gsLst>
                      <a:lin ang="81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ПР          Митохондр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100000">
                          <a:srgbClr val="66cc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нергообеспеч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100000">
                          <a:srgbClr val="66ccff"/>
                        </a:gs>
                      </a:gsLst>
                      <a:lin ang="81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ппарат Гольджи      Лизосо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100000">
                          <a:srgbClr val="66cc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изводит лизосо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100000">
                          <a:srgbClr val="66ccff"/>
                        </a:gs>
                      </a:gsLst>
                      <a:lin ang="8100000"/>
                    </a:gra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лоропласты          Ядр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100000">
                          <a:srgbClr val="66cc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итание (образование органических веществ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100000">
                          <a:srgbClr val="66ccff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3492360" y="342900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08000" y="378936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59280" y="5373720"/>
            <a:ext cx="3585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92360" y="494172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40000" y="6237360"/>
            <a:ext cx="6481800" cy="62064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50000">
                <a:srgbClr val="000066"/>
              </a:gs>
              <a:gs pos="100000">
                <a:srgbClr val="ff66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71640" y="587700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92360" y="458136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532720" y="0"/>
          <a:ext cx="38124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2720" y="0"/>
                    <a:ext cx="3812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31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4T03:17:14Z</dcterms:created>
  <dc:creator>User</dc:creator>
  <dc:description/>
  <dc:language>en-US</dc:language>
  <cp:lastModifiedBy>User</cp:lastModifiedBy>
  <dcterms:modified xsi:type="dcterms:W3CDTF">2007-12-15T10:22:35Z</dcterms:modified>
  <cp:revision>13</cp:revision>
  <dc:subject/>
  <dc:title>Основные компоненты эукариотической клетки</dc:title>
</cp:coreProperties>
</file>