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D72-D9AB-489C-89DB-EF1EDD34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15F-F65B-4E04-A3F7-A911059E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95A-9B0F-4FBE-AA60-BFCBE615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779-D38A-46D6-94C5-1572EB3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9253-B748-4F9E-AE23-0B474929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BA9-42E4-4BAD-806A-1A42C83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8B01-A6AB-4945-B182-10001CB2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076E-7AAA-433C-A2A3-4F37E571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E6DD-071D-4C67-B68E-06636316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EDB-9A72-4852-8C59-145F0C1E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5BE4-F075-46AF-8B00-6839CC5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1A4-45E3-461D-803F-96FE86F5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3493-AD12-4DB4-97E9-865462C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94AA-492C-4B60-815F-B70911B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6C7-3E55-4815-97C6-FB94969B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191B-3643-4B61-9F78-F915967A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59F9-B292-490A-AA9D-0F226A76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6EB-EE6D-4E1E-8A9F-66D7082E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6BA-EEF6-4BE2-94EE-45C1903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722-26B6-4650-B7C3-AE4B755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19D-3501-4953-BC69-383402B6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B5B-5A68-4658-8630-F2CB020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240-B2C5-4DD6-A19B-BEBEB093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EF0-447D-4979-BD85-07320B15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A962-5C29-489B-972C-279B4CF2DF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F638-7CA0-45B1-BCAB-B2A57309CA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Comic Sans MS"/>
              </a:rPr>
              <a:t>ЭНДОПЛАЗМАТИЧЕСКАЯ СЕ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2138400"/>
            <a:ext cx="7458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mic Sans MS"/>
              </a:rPr>
              <a:t>ЭНДОПЛАЗМАТИЧЕСКАЯ СЕТЬ</a:t>
            </a: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(эндоплазматический ретикулум), клеточный органоид; система канальцев, пузырьков и «цистерн», отграниченных мембранами. Расположена в цитоплазме клетки. Участвует в обменных процессах, обеспечивая транспорт веществ из окружающей среды в цитоплазму и между отдельными внутриклеточными структурам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Строение эндоплазматической сет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4251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Эндоплазматическая сеть, представляет собой систему расположенных в цитоплазме канальцев, окруженных эндоплазматической мембраной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427640" y="1844640"/>
            <a:ext cx="4500360" cy="4164120"/>
            <a:chOff x="4427640" y="1844640"/>
            <a:chExt cx="4500360" cy="41641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427640" y="1844640"/>
              <a:ext cx="450036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4427640" y="1844640"/>
              <a:ext cx="4500360" cy="416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3:31:38Z</dcterms:created>
  <dc:creator>User</dc:creator>
  <dc:description/>
  <dc:language>en-US</dc:language>
  <cp:lastModifiedBy>User</cp:lastModifiedBy>
  <dcterms:modified xsi:type="dcterms:W3CDTF">2007-12-18T11:02:23Z</dcterms:modified>
  <cp:revision>2</cp:revision>
  <dc:subject/>
  <dc:title>ЭНДОПЛАЗМАТИЧЕСКАЯ СЕТЬ</dc:title>
</cp:coreProperties>
</file>