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86B5D-4E4B-4C0A-ADE9-048CE7316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2EF85-58F5-449E-8308-8EEA8A2CD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6FB50-8DE0-48B9-8880-F6AE1F4FF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DD7F0-8FFC-460A-90E3-FCFC41AE6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79B64-4692-4CD1-AC94-F3C40FE76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C0EDA-375A-4C5B-A811-101D7D248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8B4FC-0BFC-4797-B631-5A23A66D4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79B3C-F629-41F5-A9BF-73F03DE8E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52E68-2C0F-44D6-98CF-75DF6BB59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2BFE9-F126-46EC-9720-2F0039760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21980-D4E7-40AD-87AE-1E5FDFE8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E932E-33BE-47C3-B997-611AF4C05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A2697-5CF7-4BF5-875F-99DF089D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A98A3-4B25-446B-8CA8-D03C6CEF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A1D38-8E12-4932-85E6-44EC9951B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066D8-371B-40C2-B3AA-102B67495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3A0D8-B28F-451C-87AA-2650BEB49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1C9E4-519B-4D29-B6DD-14009B53D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96DB6-5AF1-48D9-BEDD-6CB05FC8D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060E4-CAF2-43B8-9114-15DCA0893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E0E35-7E35-4A19-BAE0-BB566265B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4D0B8-BDBD-4629-9800-FA871F95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DF347-9A68-43DB-92C7-7A7F71D2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4DD93-83A4-47C6-8BBB-DDDB687C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F4C77-3ED5-4C62-A878-B501CA4AA5A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A7F86-DADD-493F-8D88-2B7739E7768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92360" y="333360"/>
            <a:ext cx="5688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Цитоплазма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"/>
          <p:cNvSpPr/>
          <p:nvPr/>
        </p:nvSpPr>
        <p:spPr>
          <a:xfrm>
            <a:off x="4067280" y="836640"/>
            <a:ext cx="43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4360" y="1628640"/>
            <a:ext cx="7921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Цитоплазма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(от греч. цитос - клетка и плазма - образование) - это внутреннее содержимое клетки, исключая ее ядерный аппарат. В цитоплазме выделяют основную гиалоплазму, фибриллярные элементы и органоиды (органеллы). В ней также могут находиться разнообразные включения, например, пигментные гранулы, гранулы гликогена и капельки жира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8T12:57:28Z</dcterms:created>
  <dc:creator>User</dc:creator>
  <dc:description/>
  <dc:language>en-US</dc:language>
  <cp:lastModifiedBy>User</cp:lastModifiedBy>
  <dcterms:modified xsi:type="dcterms:W3CDTF">2007-12-18T12:59:23Z</dcterms:modified>
  <cp:revision>1</cp:revision>
  <dc:subject/>
  <dc:title>Цитоплазма</dc:title>
</cp:coreProperties>
</file>