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702-190B-49BA-8E1F-CC99C0DF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2A6-7459-4A20-89C6-D04A95A4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6BA-9F12-4FDC-A4D1-23840C4C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9DB-E0A7-4D7B-A5F7-35E89CE2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17EE-C38E-4199-B036-18AFD758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F20-5F50-422E-AD42-19D4F10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19F-D3E3-4949-82E7-833FBE4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40A-751F-469F-BFE7-2F62F6C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C9B3-1BEF-480F-9184-BA0B49B3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B6B-45E3-4134-9B93-6C1AADA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1562-E41A-4160-B175-4930F8B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AA1-4679-458A-A35B-243E2CE6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E5E-C9C9-4DFB-9D4F-5A8DD78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54F-E2B0-411F-B1D9-CDF75FE8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4299-4CEB-44E0-9C54-364784D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67B-4AF8-4D8A-9F7E-FBFB449A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E06-EAE8-42D5-90E8-1995AE4F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E3C-BD08-4229-8BCA-11EC1546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CA7-AB51-4A1D-A1E1-EF16431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F3F-54AD-47A0-B8B8-EA5FF8C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61E-1DF2-4FCD-9106-ED4EA614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CBF-330B-4033-BC5C-5250BA5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41C-45F1-4A2B-A9BB-725A110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7DD-0EE8-4762-B0B8-E010EE7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0C2E-AF27-4DF0-A17D-2B6F648662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5B0-30B5-48EB-A2FA-74228DA667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264360" cy="79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omic Sans MS"/>
              </a:rPr>
              <a:t>Рабочая тетрад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79280" y="2781000"/>
            <a:ext cx="560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Семинар по теме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63680" y="3816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«Клетка элементарная и структу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единица всего жив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1125360"/>
            <a:ext cx="6294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Рефлекс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Проанализируйте как прошел семинар. Удалось ли вам достигнуть  цели семинара? Какие базовые знания и умения вы закрепили? Что нового вы узнали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Нужна ли такая форма работы в старших классах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Если вы хотите узнать больше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Грин Н, Стаут У, Тейлор Д. Биология: В 3-х т. Т.1: Пер. с англ./под ред. Р. Сопера. – М.: Мир, 1993. – 368с., и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Современное руководство по общей биологии, написанное английскими авторами. Весь материал изложен на весьма высоком уровне, но простота изложения и удачное расположение тем делает его доступным для учащихся старших класс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Общая биология. А.О. Рувинский 10-11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3. 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D for Windows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. Библиотека электронных наглядных пособий. Кирилл и Мефодий. Биология 6-9 клас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4.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D for Windows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. Библиотека электронных наглядных пособий. Кирилл и Мефодий. Общая биология 10,11 клас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Задание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mic Sans MS"/>
              </a:rPr>
              <a:t>Составьте словарь терминов к семинару </a:t>
            </a: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«Клетка элементарная и структурная единица всего живог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ловарь терминов по теме «Клетка элементарная и структурная единица всего живого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Задание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mic Sans MS"/>
              </a:rPr>
              <a:t>Записать в рабочей тетради выводы по слайд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mic Sans MS"/>
              </a:rPr>
              <a:t>«Тайны клетки», «Методы изучения клетки»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mic Sans MS"/>
              </a:rPr>
              <a:t>«Достижения современной цитологи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вод к слайду«Тайны клетки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вод по слайду «Место клетки в живом организме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вод к слайду «Методы изучения клетки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ывод к слайду «Достижения современной цитологии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Задание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Что позволяют узнать о клетке различные модел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бъемная модель растительной клетки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дель растительной клетки из пластилина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дель животной клетки в форме паз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бъемная модель животной клетки из пенопласта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рта-схема животной клетки и путеводитель к ней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Задание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Заполните карту контроля знаний по теме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«Клетка элементарная и структурная единица всего живог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ыполнение заданий части А,Б,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2400" spc="-1" strike="noStrike">
                <a:solidFill>
                  <a:srgbClr val="9900ff"/>
                </a:solidFill>
                <a:latin typeface="Comic Sans MS"/>
              </a:rPr>
              <a:t>Карта контроля знаний по теме «Клетка» </a:t>
            </a:r>
            <a:br>
              <a:rPr sz="2400"/>
            </a:br>
            <a:r>
              <a:rPr b="0" lang="ru-RU" sz="1400" spc="-1" strike="noStrike">
                <a:solidFill>
                  <a:srgbClr val="003366"/>
                </a:solidFill>
                <a:latin typeface="Comic Sans MS"/>
              </a:rPr>
              <a:t>Правильное, точное, обоснованное и аргументированное 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Comic Sans MS"/>
              </a:rPr>
              <a:t>выполнение всех заданий на основе анализа и синтеза имеющихся знаний оценивается “5”; 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Comic Sans MS"/>
              </a:rPr>
              <a:t>Правильное, но слабо аргументированное выполнение заданий – “4”; 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Comic Sans MS"/>
              </a:rPr>
              <a:t>Неполное, неточное не аргументированное выполнение заданий – “3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352584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Часть А -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mic Sans MS"/>
              </a:rPr>
              <a:t>Выберите по одному правильному ответу для каждого задания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1 Клетки всех живых организмов сходны по строению и химическому составу, что свидетельствует о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происхождении живого из неживой природ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едином происхождении всего живо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способности клеток к фотосинтезу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) сходных процессах обмена вещест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2 Комплекс Гольджи отсутствует в клетках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гриб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раст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живо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) бактер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58920" y="2349360"/>
            <a:ext cx="3522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ь А -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mic Sans MS"/>
              </a:rPr>
              <a:t>Выберите по одному правильному ответу для каждого задания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1 Транспорт веществ в клетку осуществляется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пластидам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митохондриям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клеточной мембран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лизосомам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2 К двумембранным органоидам относится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рибосом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митохонд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ЭПС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лизосом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270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Часть В. Установите соответствие между характеристикой и органоидом клетк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 </a:t>
            </a: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Аппарат Гольдж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истема канальцев, пронизывающих цитоплазм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истема уплощенных мембранных цилиндров и пузырь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беспечивает накопление веществ в клетк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 мембранах могут размещаться рибосом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Участвует в формировании лизос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беспечивает перемещение органических веществ в клетк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I </a:t>
            </a: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вариан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ЭПС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истема канальцев, пронизывающих цитоплазм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истема уплощенных мембранных цилиндров и пузырь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беспечивает накопление веществ в клетк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 мембранах могут размещаться рибосом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Участвует в формировании лизос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беспечивает перемещение органических веществ в клетк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Часть С. Сравните эукариотические клетки, найдите черты сходства и различ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I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ариан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omic Sans MS"/>
              </a:rPr>
              <a:t>Чем растительная клетка отличается от животно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II </a:t>
            </a:r>
            <a:r>
              <a:rPr b="1" lang="ru-RU" sz="1400" spc="-1" strike="noStrike">
                <a:solidFill>
                  <a:srgbClr val="003366"/>
                </a:solidFill>
                <a:latin typeface="Comic Sans MS"/>
              </a:rPr>
              <a:t>вариан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Чем животная клетка отличается от грибно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Воспроизведите логическую последовательность текста, являющегося ключевой фразой семина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1916280"/>
            <a:ext cx="3745080" cy="57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етка является осн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2637000"/>
            <a:ext cx="374508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т из клеток,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3284640"/>
            <a:ext cx="3745080" cy="57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заимодейств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авляющих его кле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4076640"/>
            <a:ext cx="374508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иницей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се 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724280"/>
            <a:ext cx="374508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уктурной и функцион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5373720"/>
            <a:ext cx="38181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ганизма в целом обусло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Схема строения растительной клетки"/>
          <p:cNvPicPr/>
          <p:nvPr/>
        </p:nvPicPr>
        <p:blipFill>
          <a:blip r:embed="rId1"/>
          <a:stretch/>
        </p:blipFill>
        <p:spPr>
          <a:xfrm>
            <a:off x="685800" y="1890720"/>
            <a:ext cx="37720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6:29:55Z</dcterms:created>
  <dc:creator>user</dc:creator>
  <dc:description/>
  <dc:language>en-US</dc:language>
  <cp:lastModifiedBy>user</cp:lastModifiedBy>
  <dcterms:modified xsi:type="dcterms:W3CDTF">2007-12-16T12:39:25Z</dcterms:modified>
  <cp:revision>12</cp:revision>
  <dc:subject/>
  <dc:title>Рабочая тетрадь</dc:title>
</cp:coreProperties>
</file>