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CEF-CA3D-4648-964A-2D1BAFF2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CB2-A1D6-4F24-AD07-749AA230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B1D-1C0D-4DDE-9EFE-C0095263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97C2-3356-4746-B634-0E066870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6486-8AF4-4900-8CCF-D51CB7B0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6310-5E5B-4FCD-9A73-A60E2F8E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4EB0-436B-4DC7-AF1F-E562A272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8EF5-D288-4F39-82DD-D2C7784F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1318-2B66-4525-AAC2-FD92832E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435C-D85D-4305-9714-ED6F15CB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A1E5-330B-47E8-8DB0-DB187AC2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0F84-62FB-4AA2-89C0-20B1A0B4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A415-8D9C-4E17-B466-E321F209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2FD8-F0F9-4180-9950-CD3A8E52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C432-72C8-4CC4-AAAD-5AE08654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CFB6-DE6B-4CCA-8E1E-769483D3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3D29-E373-49C2-8A92-564BB39C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552C-70AC-4388-A703-56BBF019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9F23-70A7-486A-B5FB-10C7EE1D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03A-41A7-4507-AC4E-78FDDD2E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1FBF-8623-4117-9C1D-18769FF6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92F-7A10-43D1-8863-7C0265A0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EE0-867B-4A1A-9B3D-964F260A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024-ED2E-4D57-99B8-434B8D15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C86C-8507-4D9D-A43C-B33A2B88AC1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AE03-9B24-4488-8D17-1ED50B36367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41;&#1080;&#1086;&#1083;&#1086;&#1075;&#1080;&#1103;%20&#1043;&#1080;&#1087;&#1077;&#1088;&#1089;&#1089;&#1099;&#1083;&#1082;&#1080;/&#1071;&#1044;&#1056;&#1054;.ppt" TargetMode="External"/><Relationship Id="rId2" Type="http://schemas.openxmlformats.org/officeDocument/2006/relationships/hyperlink" Target="file:///&#1041;&#1080;&#1086;&#1083;&#1086;&#1075;&#1080;&#1103;%20&#1043;&#1080;&#1087;&#1077;&#1088;&#1089;&#1089;&#1099;&#1083;&#1082;&#1080;/&#1052;&#1048;&#1058;&#1054;&#1061;&#1054;&#1053;&#1044;&#1056;&#1048;&#1048;.ppt" TargetMode="External"/><Relationship Id="rId3" Type="http://schemas.openxmlformats.org/officeDocument/2006/relationships/hyperlink" Target="file:///&#1041;&#1080;&#1086;&#1083;&#1086;&#1075;&#1080;&#1103;%20&#1043;&#1080;&#1087;&#1077;&#1088;&#1089;&#1089;&#1099;&#1083;&#1082;&#1080;/&#1055;&#1083;&#1072;&#1089;&#1090;&#1080;&#1076;&#1099;.ppt" TargetMode="External"/><Relationship Id="rId4" Type="http://schemas.openxmlformats.org/officeDocument/2006/relationships/hyperlink" Target="file:///&#1041;&#1080;&#1086;&#1083;&#1086;&#1075;&#1080;&#1103;%20&#1043;&#1080;&#1087;&#1077;&#1088;&#1089;&#1089;&#1099;&#1083;&#1082;&#1080;/&#1040;&#1055;&#1055;&#1040;&#1056;&#1040;&#1058;%20%20&#1043;&#1054;&#1051;&#1068;&#1044;&#1046;&#1048;.ppt" TargetMode="External"/><Relationship Id="rId5" Type="http://schemas.openxmlformats.org/officeDocument/2006/relationships/hyperlink" Target="file:///&#1041;&#1080;&#1086;&#1083;&#1086;&#1075;&#1080;&#1103;%20&#1043;&#1080;&#1087;&#1077;&#1088;&#1089;&#1089;&#1099;&#1083;&#1082;&#1080;/&#1051;&#1048;&#1047;&#1054;&#1057;&#1054;&#1052;&#1067;.ppt" TargetMode="External"/><Relationship Id="rId6" Type="http://schemas.openxmlformats.org/officeDocument/2006/relationships/oleObject" Target="../embeddings/oleObject1.bin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400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Основные компоненты эукариотической клет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4723920"/>
            <a:ext cx="49687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ahoma"/>
              </a:rPr>
              <a:t>Органоиды и органеллы клет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aeaea"/>
                </a:solidFill>
                <a:uFillTx/>
                <a:latin typeface="Comic Sans MS"/>
              </a:rPr>
              <a:t>КЛЕТ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32576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КЛЕТКА, элементарная живая система, основа строения и жизнедеятельности всех животных и растений. Клетки существуют как самостоятельные организмы (напр., простейшие, бактерии). Размеры клетки варьируют в пределах от 0,1-0,25 мкм (некоторые бактерии) до 155 мм (яйцо страуса в скорлупе)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70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У человека в организме новорожденного около 2·10</a:t>
            </a:r>
            <a:r>
              <a:rPr b="1" lang="en-US" sz="2100" spc="-1" strike="noStrike" baseline="30000">
                <a:solidFill>
                  <a:srgbClr val="ffffff"/>
                </a:solidFill>
                <a:latin typeface="Comic Sans MS"/>
              </a:rPr>
              <a:t>12</a:t>
            </a: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. В каждой клетке различают 3 основные части: мембрану, цитоплазму, ядро. Наука о клетке — цитолог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31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8459640" y="476280"/>
          <a:ext cx="38124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9640" y="476280"/>
                    <a:ext cx="381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31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00000" y="333360"/>
            <a:ext cx="7250400" cy="3535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99"/>
                </a:solidFill>
                <a:uFillTx/>
                <a:latin typeface="Tahoma"/>
              </a:rPr>
              <a:t>Органоиды</a:t>
            </a: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постоянные жизненно важные составные части цитоплазмы клеток, обеспечивающие выполнение специальных функций клетки, имеющие определенное строение и месторасположение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Органои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484000" y="3357720"/>
            <a:ext cx="1150920" cy="5760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429000"/>
            <a:ext cx="0" cy="12970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3284640"/>
            <a:ext cx="792000" cy="2156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393372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Двумембр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3640" y="465300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Одномембр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0360" y="33577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Немембр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71640" cy="3500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3366cc"/>
              </a:gs>
              <a:gs pos="100000">
                <a:srgbClr val="66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4365720"/>
            <a:ext cx="2016360" cy="13129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3366cc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Яд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Comic Sans MS"/>
                <a:hlinkClick r:id="rId2"/>
              </a:rPr>
              <a:t>Митохонд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Comic Sans MS"/>
                <a:hlinkClick r:id="rId3"/>
              </a:rPr>
              <a:t>Пласти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71640" y="5084640"/>
            <a:ext cx="3384720" cy="12762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Comic Sans MS"/>
                <a:hlinkClick r:id="rId4"/>
              </a:rPr>
              <a:t>Аппарат Гольдж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Comic Sans MS"/>
                <a:hlinkClick r:id="rId5"/>
              </a:rPr>
              <a:t>Лизосо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ЭП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3789360"/>
            <a:ext cx="2519640" cy="231156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Рибосо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Клеточный цен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Ваку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Жгутики, ресни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Микротрубо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459640" y="189000"/>
          <a:ext cx="38124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3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59640" y="189000"/>
                    <a:ext cx="381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31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Tahoma"/>
              </a:rPr>
              <a:t>Какие взаимосвязи существует между органоидами клетки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66680" y="1981080"/>
          <a:ext cx="7682040" cy="4341960"/>
        </p:xfrm>
        <a:graphic>
          <a:graphicData uri="http://schemas.openxmlformats.org/drawingml/2006/table">
            <a:tbl>
              <a:tblPr/>
              <a:tblGrid>
                <a:gridCol w="3659400"/>
                <a:gridCol w="4022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Систем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Характер взаимосвязи в представленных система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еточная мембрана        Яд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мен вещест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дро          Рибосомы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дро производит рибосо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тохондрии          Бел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нергообеспе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ПС           Цитоплаз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руктурируе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ПР          Митохондр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нергообеспе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ппарат Гольджи      Лизосо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изводит лизосо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лоропласты          Ядр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итание (образование органических вещест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3492360" y="33577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6308640"/>
            <a:ext cx="6481800" cy="54936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50000">
                <a:srgbClr val="000066"/>
              </a:gs>
              <a:gs pos="100000">
                <a:srgbClr val="ff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532720" y="0"/>
          <a:ext cx="3812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2720" y="0"/>
                    <a:ext cx="381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835280" y="371628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3280" y="414972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450864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501336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59280" y="544500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16360" y="587700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1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03:17:14Z</dcterms:created>
  <dc:creator>User</dc:creator>
  <dc:description/>
  <dc:language>en-US</dc:language>
  <cp:lastModifiedBy>User</cp:lastModifiedBy>
  <dcterms:modified xsi:type="dcterms:W3CDTF">2007-12-18T17:57:40Z</dcterms:modified>
  <cp:revision>14</cp:revision>
  <dc:subject/>
  <dc:title>Основные компоненты эукариотической клетки</dc:title>
</cp:coreProperties>
</file>