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42AC-2C6E-419A-BE9E-AA6130DF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A0A0-EA1C-4AE0-9011-65A42945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A7BE-20C1-433C-B1A0-B1B8FBE9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70FE-4026-4DC1-839F-D5F91E61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C173-10B7-49B6-ADDC-F4063888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3BB5-9D0B-4471-A5CE-E9575432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437E-1960-44D0-967B-FA046B3C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CB09-F6DE-400C-879E-6FFF23C6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5B0C-7A0D-45B3-97C4-B6CAA598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0744-2E01-4A3B-9AE3-754DCCE4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9E8B-B065-4FAF-9BA0-9A41EDB0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CA16-9A24-445A-AD59-8172A38B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1894-542F-4DE6-9B06-7EF60B1B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F653-295D-4923-8B23-AAEF4553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EA5F-2C17-4E86-B971-01F5391B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4B7C-2A2D-4DBE-A778-8AF0795B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7CC7-3673-415C-8C28-2116045E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8165-6302-469C-9AA9-AF140B5E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4AF3-CD32-4007-95F8-071E0014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94C-D0B9-47CB-A48A-2B8BECC4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6918-2499-42F8-9FA8-14A37BAC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FE0A-E406-45D1-BB2C-10EE5D93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172A-499D-4E2A-B865-9AC6C46D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C6C-3E29-4CDE-9520-6FAC1A57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7EDD-C578-4653-A4BA-9530BE02973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D17C-B053-4670-8DD2-9168354898B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eaeaea"/>
                </a:solidFill>
                <a:latin typeface="Comic Sans MS"/>
              </a:rPr>
              <a:t>Вакуоли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60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акуо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(фр. Vacuole, от лат. Vacuus – пустой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куоли - полости в цитоплазме животных и растительных клеток, ограниченные мембраной и заполненные жидкостью. Различают пищеварительные и сократительные (пульсирующие) вакуоли, а также вакуоли, регулирующие осмотическое давление и служащие для выведения из организма продуктов распада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8360" y="260280"/>
          <a:ext cx="38088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260280"/>
                    <a:ext cx="3808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95280" y="980640"/>
            <a:ext cx="3456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лько у растений (до 90% объема клетки). Крупная полость в центре клетки, заполненная клеточным сок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348000" y="1890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Вакуо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32360" y="1046880"/>
            <a:ext cx="3778200" cy="558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Функции вакуоле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ункции вакуолей 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регуляция водно-солевого обмена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оддержание тургорного давления в клетке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акопление низкомолекулярных водорастворимых метаболитов, запасных веществ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ыведение из обмена токсичны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3:48:30Z</dcterms:created>
  <dc:creator>User</dc:creator>
  <dc:description/>
  <dc:language>en-US</dc:language>
  <cp:lastModifiedBy>User</cp:lastModifiedBy>
  <dcterms:modified xsi:type="dcterms:W3CDTF">2007-12-15T09:52:35Z</dcterms:modified>
  <cp:revision>4</cp:revision>
  <dc:subject/>
  <dc:title>Вакуоли</dc:title>
</cp:coreProperties>
</file>