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1513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C940-085C-4F78-A8FD-D8C372B1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8075-4096-4A6A-97ED-E4641A3B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0123-1576-46EA-BCA4-A4A793DC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9E84-1F12-4E01-AA29-1BE1FB6B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FC9C-DAE2-4538-9873-CA5379AE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93C7-6FEE-497F-9D1B-609E3204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86E7-CFC9-46D7-9850-6469764D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EA53-AF36-47A8-97ED-92208619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182F-18C0-4B6B-B80A-4C3FBA12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A4BC-E128-4B6C-B2EB-0480B10C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FF55-CD19-44D6-9538-F914ABB1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F5B7-A77D-47A7-BF29-D4DD69C1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5139-15C7-48A2-B556-C1E6BE33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FBED-D01F-476A-9A58-C4C6EE9B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8D87-222F-4666-9375-0E48E7BC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5E54-30CA-4343-B201-9FC65421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589A-150A-4421-8226-1C34589F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F2AE-CC8F-4BDB-8C65-1342DD43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2050-4BEB-4252-9A78-499D755B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3172-D07F-4FC6-9F71-B45593CC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ADF-C880-40EE-83CE-46ACEA29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BAD-7625-41DE-81CE-10322F09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2CED-2519-4607-B69E-A74BBB6A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F9E7-A768-47E4-9823-A3D7EC7A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4AF4-8A49-4B32-9686-A61276ECCCA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E044-8A21-4E4B-9E7F-0E29EDF98D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33"/>
                </a:solidFill>
                <a:latin typeface="Times New Roman"/>
              </a:rPr>
              <a:t>Современная клеточная теория</a:t>
            </a: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4" descr="«ТИПИЧНАЯ» РАСТИТЕЛЬНАЯ КЛЕТКА – схематически изображены основные клеточные структуры."/>
          <p:cNvPicPr/>
          <p:nvPr/>
        </p:nvPicPr>
        <p:blipFill>
          <a:blip r:embed="rId1"/>
          <a:stretch/>
        </p:blipFill>
        <p:spPr>
          <a:xfrm>
            <a:off x="250920" y="836640"/>
            <a:ext cx="29527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70164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Times New Roman"/>
              </a:rPr>
              <a:t>Развитие знаний о клетк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425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тология – наука о клетке. История изучения клетки связана с именами таких учёных, ка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берт Гук, Антони ван Левенгук, Маттис Шлейден и Теодор Шванн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берт Гу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1665 году вводит термин «клетка». Он впервые применил микроскоп для исследования тканей, и на срезе пробки и сердцевины бузины увидел ячейки, которые и назвал клетками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они ван Левенгу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первые в 1674 году открыл микромир, для чего использовал световой микроскопии увидел клетки под увеличением в 270 ра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831 г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. Броу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крыл яд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тис Шлейден и Теодор Шван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1839 г. создают клеточную теорию. В работе «Микроскопические исследования о соответствии в структуре и росте животных и растений» (1839) Т. Шванн сформулировал основные положения клеточной теории, которые затем неоднократно дополнялись и уточняли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49080" y="288720"/>
            <a:ext cx="711180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r>
              <a:rPr b="1" lang="ru-RU" sz="2400" spc="-1" strike="noStrike">
                <a:solidFill>
                  <a:srgbClr val="996600"/>
                </a:solidFill>
                <a:latin typeface="Times New Roman"/>
              </a:rPr>
              <a:t>Современная клеточная теория включает следующие положения: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1700"/>
            </a:b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Все живые организмы состоят из клеток. Клетка – структурная, функциональная единица живого, основная единица строения и развития всех живых организмов, наименьшая единица живого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Клетки всех одноклеточных и многоклеточных организмов сходны (гомологичны) по своему строению, химическому составу, основным проявлениям жизнедеятельности и обмену веще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 Размножение клеток происходит путём их деления, и каждая новая клетка образуется в результате деления исходной (материнской) клетк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В сложных многоклеточных организмах клетки специализированы по выполняемым ими функциям и образуют ткани; из тканей состоят органы, которые тесно взаимосвязаны и подчинены нервным и гуморальным системам регуля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Клеточное строение организмов – свидетельство того, что все живые организмы имеют единое происхожде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0-16T16:19:04Z</dcterms:modified>
  <cp:revision>3</cp:revision>
  <dc:subject/>
  <dc:title>PowerPoint Presentation</dc:title>
</cp:coreProperties>
</file>