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B1C9-9363-4D55-AC1A-A5241B1C9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78DD-1230-4B50-A901-3E8561D5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18E8-31A8-4BEF-8CF1-5B51E1DE3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B437-1593-4857-93F5-57C9A519D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7B81-F094-4DE6-A3AB-173D354D1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0708-6666-40AE-948B-3D8B1492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C8F6-16A6-44F0-8641-36C9DD6D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CE79-6E8D-4010-88F3-6081216E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5ABF-C5BA-4AC6-B551-EDDC187A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DC69-1FB3-4652-9D35-5567DB6E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11B1-F3CF-4B66-935B-9CC49CFB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567E-AEB9-49C4-8DA3-56DE3065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5E32-5283-4B22-8B81-CD1486CA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B1D5-100E-40B1-9D30-1C63DAA4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9388-958A-405E-92A3-40EA42B8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0C48-8E16-4926-8E20-EE92B187B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38D4-0D8D-4BDA-8E19-D958644E5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96AD-0290-41DF-9990-09340803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BE52-1546-493E-A089-1D94D3F4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A286-3CC6-45AA-A37A-6DC55CCE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2B30-1693-467F-884F-2EB5455C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6C48-F6E5-40D2-8458-F3E45407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65BF-189D-4688-897E-2AEE91B7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7D36-B8E3-4614-93F4-9EF650FC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AF2D-6E3B-4B0D-B9DE-DAD7E0311A5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C26E-FED8-40A6-873A-A466027E71A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eaeaea"/>
                </a:solidFill>
                <a:uFillTx/>
                <a:latin typeface="Comic Sans MS"/>
              </a:rPr>
              <a:t>МИТОХОНДРИИ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152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Comic Sans MS"/>
              </a:rPr>
              <a:t>МИТОХОНДРИИ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(от греч. mitos — нить и chondrion — зернышко, крупинка), органеллы животных и растительных клеток. В митохондрии протекают окислительно-восстановительные реакции, обеспечивающие клетки энергией. Число митохондрий в одной клетке от единиц до нескольких тысяч. У прокариот отсутствуют (их функцию выполняет клеточная мембрана)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8388360" y="333360"/>
          <a:ext cx="3808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8360" y="333360"/>
                    <a:ext cx="380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2952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итохондр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332000" y="5084640"/>
            <a:ext cx="324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99ff"/>
                </a:solidFill>
                <a:uFillTx/>
                <a:latin typeface="Arial"/>
              </a:rPr>
              <a:t>Фун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Синтез АТ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268280"/>
            <a:ext cx="4895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алочковидные, нитевидные или шаровидные органеллы с двойной мембраной — наружной гладкой и внутренней с многочисленными выростами (кристами). Между мембранами находится пространство. На внутренней мембране находятся ферменты. Внутри находится вещество, называемое матриксом, содержащее ДНК, РНК и митохондриальные рибосом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70600" y="6020640"/>
            <a:ext cx="519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аствуют в энергетическом обмене клет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459640" y="476280"/>
          <a:ext cx="38124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59640" y="476280"/>
                    <a:ext cx="3812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932360" y="1413000"/>
            <a:ext cx="421164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4T03:59:40Z</dcterms:created>
  <dc:creator>User</dc:creator>
  <dc:description/>
  <dc:language>en-US</dc:language>
  <cp:lastModifiedBy>User</cp:lastModifiedBy>
  <dcterms:modified xsi:type="dcterms:W3CDTF">2007-12-17T17:55:30Z</dcterms:modified>
  <cp:revision>4</cp:revision>
  <dc:subject/>
  <dc:title>МИТОХОНДРИИ</dc:title>
</cp:coreProperties>
</file>