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217-E11E-4433-87AF-FA796E60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A91-5776-48DB-910B-10819CC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E3A-92BF-410E-9508-4B0277AB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DB9-BDCF-4458-B229-EA1FD71A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EE1-CCC6-45B8-AEFB-69756E5D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788-936F-4D24-9B93-A854E635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06C-4EB7-409C-956F-F4E8BDA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0BE-CEF0-4D23-B397-FC704C99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95F-AD2B-48AF-AF94-80E48EA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296-8633-4B16-BC88-EFDFE283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B11-13D8-4562-9E69-8CCE170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387-2437-4888-A6C4-36BE7B7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C94-0AF2-47C4-AA28-4D412DB2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Monotype Corsiva"/>
              </a:rPr>
              <a:t>Основы цит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2133720"/>
          <a:ext cx="380988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ловарь терми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остав эукариотической 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Плазматическая мембр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Механизм поступления веществ в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2590920"/>
          <a:ext cx="1523880" cy="15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59092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33520" y="198108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Monotype Corsiva"/>
              </a:rPr>
              <a:t>Словарь терминов по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Monotype Corsiva"/>
              </a:rPr>
              <a:t>теме: Основы цит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кариотическая кле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укариотическая кле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рганоиды: одномембранные, двумембранные, немембр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еточная обол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лазматическая мембр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итопла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д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итохонд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еточный цен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ппарат Гольдж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П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ибосо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изосо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иофибрил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сни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Хромосо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Хромат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клю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акуо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ласт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Эукариотическая кле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905120"/>
            <a:ext cx="175248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905120"/>
            <a:ext cx="24386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1905120"/>
            <a:ext cx="21333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лет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57400" y="1143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143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10666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819520" y="28954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8954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657600"/>
            <a:ext cx="1752480" cy="990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алопла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733920"/>
            <a:ext cx="137160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733920"/>
            <a:ext cx="144756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505320"/>
            <a:ext cx="2057400" cy="1218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зматическ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Клеточная оболоч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37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90920" y="144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13716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133720"/>
            <a:ext cx="3962520" cy="1218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зматическая мембр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209680"/>
            <a:ext cx="3581280" cy="1143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жный с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819160" y="3200400"/>
            <a:ext cx="2438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10080" y="33526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2767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267080"/>
            <a:ext cx="3353040" cy="10670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ительная к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леточная ст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267080"/>
            <a:ext cx="2743200" cy="12193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отная к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икокали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343400"/>
            <a:ext cx="2438280" cy="106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ибная к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т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Строение,свойства и функции плазматической мембр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инамич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лупроницаем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амозамыкаем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)ограничивает содержимое клет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)соединяет клетки в тка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)обеспечивает транспорт веществ в клетк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)Сохраняет форму клет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)Участвует в образовании жгут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0" y="1752480"/>
          <a:ext cx="38098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752480"/>
                    <a:ext cx="3809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Поступление веществ в клетку</a:t>
            </a:r>
            <a:br>
              <a:rPr sz="4400"/>
            </a:br>
            <a:r>
              <a:rPr b="0" lang="ru-RU" sz="2000" spc="-1" strike="noStrike">
                <a:solidFill>
                  <a:srgbClr val="6600ff"/>
                </a:solidFill>
                <a:latin typeface="Monotype Corsiva"/>
              </a:rPr>
              <a:t>Эндоцитоз – процесс поступления веществ в клетку</a:t>
            </a:r>
            <a:br>
              <a:rPr sz="2000"/>
            </a:br>
            <a:r>
              <a:rPr b="0" lang="ru-RU" sz="2000" spc="-1" strike="noStrike">
                <a:solidFill>
                  <a:srgbClr val="6600ff"/>
                </a:solidFill>
                <a:latin typeface="Monotype Corsiva"/>
              </a:rPr>
              <a:t>Экзоцитоз – процесс выведения веществ из кл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ктивный транспорт (происходит с затратой энергии АТФ, против градиента концентрации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a – K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ый насос. Из клетки 3 катиона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+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клетку 2 катиона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Пассивный   транспорт (происходит без затраты энергии, по градиенту концентрации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 Простая диффуз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через липидный бисло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) через мембранные канал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Облегченная диффузия-транспорт веществ с помощью транспортных бел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 Фаго и пиноцитоз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фагоцитоз – поступление твердых частиц в клетку путем впячивания  мембра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иноцитоз – поступление клетку  капелек жидк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25:16Z</dcterms:created>
  <dc:creator>User</dc:creator>
  <dc:description/>
  <dc:language>en-US</dc:language>
  <cp:lastModifiedBy>user</cp:lastModifiedBy>
  <dcterms:modified xsi:type="dcterms:W3CDTF">2008-10-16T16:20:38Z</dcterms:modified>
  <cp:revision>6</cp:revision>
  <dc:subject/>
  <dc:title>Основы цитологии</dc:title>
</cp:coreProperties>
</file>