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775-FD8A-4176-8FC9-0E2CA60F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B77-B6B0-492D-8D45-6D105756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B85-CDD7-4ACC-A413-31B7F937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DE5-1E30-4354-8112-C9FED3BE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D826-75EA-4CE4-8AB6-E24FA7A1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8431-5288-4A74-AA6F-892A9F0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A3B1-303B-4B00-85BF-F32810B9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089C-A2CE-49B4-8AEC-21E053FB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9E73-CFBC-4036-9979-C2A76FAA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03CB-243E-4368-92B8-8A814F67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B829-11DB-4584-ACAA-A8DE1150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35E-816F-4ED2-8519-2D56E867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DCC6-E9F7-46C0-9DE5-2228262C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9968-1D93-47FB-947F-18B81E5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26AA-FC97-4C72-8AFE-D10AD74C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741D-62E4-4F78-82A3-19F7AEEC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6C01-EECA-4335-8178-34635298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3EF-7DFC-4675-9D32-238F3D8A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C00-A47D-4B26-B4F6-A6937FF3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A31-2BE5-4BC6-82D9-6487D45C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8D4-917B-47A4-B2DE-E1462A4A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FC1-0C9F-46C3-B44B-0582CF3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542-D2B7-4319-8044-58C2557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470-027E-4157-82B2-67AFA3CF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F975-B5A2-47EC-A7DC-60DEBC565E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10F9-EF52-4294-8770-E1BD3F0E72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Уровни клеточной организаци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чем основано деление всех живых организмов на две группы прокариоты и эукарио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кариоты и эукари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кариоты появились 3-3,5 млр. лет 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ним относятся бактерии и сине-зеленые водоросли. Прокариоты не имеют оформленного ядра. ДНК находится в центре клетки  в форме кольца или спи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а бактериальная кле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- плазматическая мемб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- Д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– мезос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- рибосо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Рис. 10"/>
          <p:cNvPicPr/>
          <p:nvPr/>
        </p:nvPicPr>
        <p:blipFill>
          <a:blip r:embed="rId1"/>
          <a:stretch/>
        </p:blipFill>
        <p:spPr>
          <a:xfrm>
            <a:off x="826920" y="1628640"/>
            <a:ext cx="396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кариоты и эукари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укариоты имеют оформленное ядро. Основные компоненты эукариотической клетки: ядро, цитоплазма, наружная мемб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укари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763280" y="465300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653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5084640"/>
            <a:ext cx="1008000" cy="289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5157720"/>
            <a:ext cx="1008360" cy="287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084640"/>
            <a:ext cx="1273320" cy="289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«ТИПИЧНАЯ» РАСТИТЕЛЬНАЯ КЛЕТКА – схематически изображены основные клеточные структуры."/>
          <p:cNvPicPr/>
          <p:nvPr/>
        </p:nvPicPr>
        <p:blipFill>
          <a:blip r:embed="rId1"/>
          <a:stretch/>
        </p:blipFill>
        <p:spPr>
          <a:xfrm>
            <a:off x="4716360" y="162864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ите биологическую задачу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ясните выражение одного ученого-биол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Лишь после того как появились мембраны, … из супа, варившегося в морях, могли сформироваться первые живые организ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ы современные представления о структуре биологической мембра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1981080"/>
          <a:ext cx="38098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3809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7:06:14Z</dcterms:created>
  <dc:creator>user</dc:creator>
  <dc:description/>
  <dc:language>en-US</dc:language>
  <cp:lastModifiedBy>User</cp:lastModifiedBy>
  <dcterms:modified xsi:type="dcterms:W3CDTF">2007-12-19T14:22:05Z</dcterms:modified>
  <cp:revision>4</cp:revision>
  <dc:subject/>
  <dc:title>Уровни клеточной организации</dc:title>
</cp:coreProperties>
</file>