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1513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4AA9-024E-4C3A-A38F-12C2A44D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D95A-01A8-463D-8769-91C79280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573-8135-44C1-8032-EFDD4EB1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775C-BA3E-4803-9BB0-B65D16B5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B48A-7075-4B98-8B78-6901EC3C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9772-4C74-4405-9EFA-62DD5457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E482-36C7-456E-B39E-BF663280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0EF9-9102-414A-B2BB-D6C7E408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15E3-E5BE-4122-90E0-1CFAE5C4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7CC6-5BC2-4748-84B2-DDE6E8A7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91D6-D6EC-43B3-B717-2E933AF5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2049-1C8B-4F9C-B1C5-0264FF82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8FC5-453E-427E-9A0B-D2CEC721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8039-DB60-4D76-B842-82050DE1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8821-FAA1-4CA3-952D-A4D84E1E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DB1C-3F09-4E98-8E50-D942E2A9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2EB9-9515-4613-8599-6B9FD7DC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5101-EC0B-42CD-8ABF-44DBA28A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D4B7-DB52-4A7C-A60C-DCED5023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8ABE-86AB-4854-92E1-D47B8103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9864-2445-405F-A4A8-65C502BF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2812-F60E-48EF-A833-3060E005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13CD-10F3-4FB2-9A16-DCC00FF1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4EBD-55BB-4B2C-A16C-CA7DE5EA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F272-04D5-4231-8AF6-9B85A160AF8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8446-BD70-4288-9342-DE816BF79D3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41;&#1080;&#1086;&#1083;&#1086;&#1075;&#1080;&#1103;%20&#1043;&#1080;&#1087;&#1077;&#1088;&#1089;&#1089;&#1099;&#1083;&#1082;&#1080;/&#1071;&#1044;&#1056;&#1054;.ppt" TargetMode="External"/><Relationship Id="rId2" Type="http://schemas.openxmlformats.org/officeDocument/2006/relationships/hyperlink" Target="file:///&#1041;&#1080;&#1086;&#1083;&#1086;&#1075;&#1080;&#1103;%20&#1043;&#1080;&#1087;&#1077;&#1088;&#1089;&#1089;&#1099;&#1083;&#1082;&#1080;/&#1052;&#1048;&#1058;&#1054;&#1061;&#1054;&#1053;&#1044;&#1056;&#1048;&#1048;.ppt" TargetMode="External"/><Relationship Id="rId3" Type="http://schemas.openxmlformats.org/officeDocument/2006/relationships/hyperlink" Target="file:///&#1041;&#1080;&#1086;&#1083;&#1086;&#1075;&#1080;&#1103;%20&#1043;&#1080;&#1087;&#1077;&#1088;&#1089;&#1089;&#1099;&#1083;&#1082;&#1080;/&#1055;&#1083;&#1072;&#1089;&#1090;&#1080;&#1076;&#1099;.ppt" TargetMode="External"/><Relationship Id="rId4" Type="http://schemas.openxmlformats.org/officeDocument/2006/relationships/hyperlink" Target="file:///&#1041;&#1080;&#1086;&#1083;&#1086;&#1075;&#1080;&#1103;%20&#1043;&#1080;&#1087;&#1077;&#1088;&#1089;&#1089;&#1099;&#1083;&#1082;&#1080;/&#1040;&#1055;&#1055;&#1040;&#1056;&#1040;&#1058;%20%20&#1043;&#1054;&#1051;&#1068;&#1044;&#1046;&#1048;.ppt" TargetMode="External"/><Relationship Id="rId5" Type="http://schemas.openxmlformats.org/officeDocument/2006/relationships/hyperlink" Target="file:///&#1041;&#1080;&#1086;&#1083;&#1086;&#1075;&#1080;&#1103;%20&#1043;&#1080;&#1087;&#1077;&#1088;&#1089;&#1089;&#1099;&#1083;&#1082;&#1080;/&#1051;&#1048;&#1047;&#1054;&#1057;&#1054;&#1052;&#1067;.ppt" TargetMode="External"/><Relationship Id="rId6" Type="http://schemas.openxmlformats.org/officeDocument/2006/relationships/oleObject" Target="../embeddings/oleObject1.bin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4008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aeaea"/>
                </a:solidFill>
                <a:uFillTx/>
                <a:latin typeface="Tahoma"/>
              </a:rPr>
              <a:t>Основные компоненты эукариотической клетк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16000" y="4723920"/>
            <a:ext cx="49687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ahoma"/>
              </a:rPr>
              <a:t>Органоиды и органеллы клет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aeaea"/>
                </a:solidFill>
                <a:uFillTx/>
                <a:latin typeface="Comic Sans MS"/>
              </a:rPr>
              <a:t>КЛЕТ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32576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КЛЕТКА, элементарная живая система, основа строения и жизнедеятельности всех животных и растений. Клетки существуют как самостоятельные организмы (напр., простейшие, бактерии). Размеры клетки варьируют в пределах от 0,1-0,25 мкм (некоторые бактерии) до 155 мм (яйцо страуса в скорлупе)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70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У человека в организме новорожденного около 2·10</a:t>
            </a:r>
            <a:r>
              <a:rPr b="1" lang="en-US" sz="2100" spc="-1" strike="noStrike" baseline="30000">
                <a:solidFill>
                  <a:srgbClr val="ffffff"/>
                </a:solidFill>
                <a:latin typeface="Comic Sans MS"/>
              </a:rPr>
              <a:t>12</a:t>
            </a: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. В каждой клетке различают 3 основные части: мембрану, цитоплазму, ядро. Наука о клетке — цитология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31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8459640" y="476280"/>
          <a:ext cx="38124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9640" y="476280"/>
                    <a:ext cx="381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31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00000" y="333360"/>
            <a:ext cx="7250400" cy="3535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99"/>
                </a:solidFill>
                <a:uFillTx/>
                <a:latin typeface="Tahoma"/>
              </a:rPr>
              <a:t>Органоиды</a:t>
            </a: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 –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постоянные жизненно важные составные части цитоплазмы клеток, обеспечивающие выполнение специальных функций клетки, имеющие определенное строение и месторасположение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Органои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484000" y="3357720"/>
            <a:ext cx="1150920" cy="5760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3429000"/>
            <a:ext cx="0" cy="12970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51640" y="3284640"/>
            <a:ext cx="792000" cy="21564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393372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Двумембра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3640" y="465300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Одномембра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0360" y="335772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Немембра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71640" cy="35002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3366cc"/>
              </a:gs>
              <a:gs pos="100000">
                <a:srgbClr val="66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4365720"/>
            <a:ext cx="2016360" cy="13129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3366cc"/>
              </a:gs>
              <a:gs pos="100000">
                <a:srgbClr val="0000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Comic Sans MS"/>
                <a:hlinkClick r:id="rId1"/>
              </a:rPr>
              <a:t>Яд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Comic Sans MS"/>
                <a:hlinkClick r:id="rId2"/>
              </a:rPr>
              <a:t>Митохонд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Comic Sans MS"/>
                <a:hlinkClick r:id="rId3"/>
              </a:rPr>
              <a:t>Пласти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71640" y="5084640"/>
            <a:ext cx="3384720" cy="12762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Comic Sans MS"/>
                <a:hlinkClick r:id="rId4"/>
              </a:rPr>
              <a:t>Аппарат Гольдж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Comic Sans MS"/>
                <a:hlinkClick r:id="rId5"/>
              </a:rPr>
              <a:t>Лизосо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ЭП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3789360"/>
            <a:ext cx="2519640" cy="231156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Рибосо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Клеточный цент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Вакуо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Жгутики, реснич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Микротрубоч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459640" y="189000"/>
          <a:ext cx="381240" cy="48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3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459640" y="189000"/>
                    <a:ext cx="381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31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Tahoma"/>
              </a:rPr>
              <a:t>Какие взаимосвязи существует между органоидами клетки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66680" y="1981080"/>
          <a:ext cx="7682040" cy="4341960"/>
        </p:xfrm>
        <a:graphic>
          <a:graphicData uri="http://schemas.openxmlformats.org/drawingml/2006/table">
            <a:tbl>
              <a:tblPr/>
              <a:tblGrid>
                <a:gridCol w="3659400"/>
                <a:gridCol w="40226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Систем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Характер взаимосвязи в представленных система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99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еточная мембрана        Ядр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мен вещест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дро          Рибосомы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дро производит рибосо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итохондрии          Бел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нергообеспе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ПС           Цитоплаз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руктурируе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ПР          Митохондр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нергообеспе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ппарат Гольджи      Лизосо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изводит лизосо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лоропласты          Ядр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итание (образование органических веществ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3492360" y="335772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40000" y="6308640"/>
            <a:ext cx="6481800" cy="54936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50000">
                <a:srgbClr val="000066"/>
              </a:gs>
              <a:gs pos="100000">
                <a:srgbClr val="ff66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8532720" y="0"/>
          <a:ext cx="38124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2720" y="0"/>
                    <a:ext cx="381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835280" y="3716280"/>
            <a:ext cx="433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43280" y="414972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4508640"/>
            <a:ext cx="433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501336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59280" y="5445000"/>
            <a:ext cx="433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16360" y="587700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1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03:17:14Z</dcterms:created>
  <dc:creator>User</dc:creator>
  <dc:description/>
  <dc:language>en-US</dc:language>
  <cp:lastModifiedBy>user</cp:lastModifiedBy>
  <dcterms:modified xsi:type="dcterms:W3CDTF">2008-10-16T16:19:59Z</dcterms:modified>
  <cp:revision>15</cp:revision>
  <dc:subject/>
  <dc:title>Основные компоненты эукариотической клетки</dc:title>
</cp:coreProperties>
</file>