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C9E-84F1-46F3-903D-429C6835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C6C-A9F3-4B0C-ADA5-AB7EAC4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BC4-3207-406B-9D83-38B27E25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D7C-C4B3-4888-AC2C-D873EE3C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BE72-B729-48E5-A383-7B33CFD9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2C959-B87B-47F5-840B-A1E357B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08E9-FB53-4A63-B4C5-DFEDB15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235C2-C96A-4FDD-AF1E-F0327D6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8FCD6-FDE8-4738-8A05-A4C54E25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D61B-F978-4905-8B81-261D52D2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678F-778A-430D-9086-F829126C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713-E049-4E27-B5F5-0A3FC43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57269-F812-443D-961F-5CBADC2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F4D2B-1590-4E5D-8BF7-CC63479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219B0-4264-427A-9B4C-3219D9D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FC6C4-6F06-41AB-89B3-82AC73F7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8318B-BF05-4C29-AC3B-FD288DC5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D2-F13E-48B1-84A1-1A3C6E8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C86-68E3-4636-9764-DEA2AF9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B0F-D3A0-4359-95B2-C4CF528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4F7-C517-40AC-A4F8-5A8CF95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A17-A7E7-45D2-AB2D-8709592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A14-54CA-4FBD-8172-7DD142A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212-08E6-4D16-937C-5BCF485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2E3C-E478-4A10-AAB2-F3224723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9508-5A24-430E-B65E-D9B9390E42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итолог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1.Сравнение растительной, животной и грибной клет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2. Схемы строения  растительной, животной и грибной клет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3. Задание №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4. Задание №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5. Выв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-17136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равнение строения клет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549360"/>
          <a:ext cx="8229600" cy="6278400"/>
        </p:xfrm>
        <a:graphic>
          <a:graphicData uri="http://schemas.openxmlformats.org/drawingml/2006/table">
            <a:tbl>
              <a:tblPr/>
              <a:tblGrid>
                <a:gridCol w="2057400"/>
                <a:gridCol w="2048040"/>
                <a:gridCol w="206676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органоиды кле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349"/>
                        </a:spcBef>
                        <a:buClr>
                          <a:srgbClr val="33cccc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топлазматическая мемб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топла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тохонд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ппарат Гольдж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босо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куо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лю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зосо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cccc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клю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хемы  строения клет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Растительная кл"/>
          <p:cNvPicPr/>
          <p:nvPr/>
        </p:nvPicPr>
        <p:blipFill>
          <a:blip r:embed="rId2"/>
          <a:stretch/>
        </p:blipFill>
        <p:spPr>
          <a:xfrm>
            <a:off x="468360" y="1905120"/>
            <a:ext cx="3816360" cy="4548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Животная кл"/>
          <p:cNvPicPr/>
          <p:nvPr/>
        </p:nvPicPr>
        <p:blipFill>
          <a:blip r:embed="rId3"/>
          <a:stretch/>
        </p:blipFill>
        <p:spPr>
          <a:xfrm>
            <a:off x="4716360" y="1484280"/>
            <a:ext cx="3672000" cy="2401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Грибная кл"/>
          <p:cNvPicPr/>
          <p:nvPr/>
        </p:nvPicPr>
        <p:blipFill>
          <a:blip r:embed="rId4"/>
          <a:stretch/>
        </p:blipFill>
        <p:spPr>
          <a:xfrm>
            <a:off x="4788000" y="4005360"/>
            <a:ext cx="3600360" cy="270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 №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равните строение животной и грибной клет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773360"/>
          <a:ext cx="8229600" cy="48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о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400960" cy="14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 №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Подпишите основные       органоиды клет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Раст"/>
          <p:cNvPicPr/>
          <p:nvPr/>
        </p:nvPicPr>
        <p:blipFill>
          <a:blip r:embed="rId2"/>
          <a:stretch/>
        </p:blipFill>
        <p:spPr>
          <a:xfrm>
            <a:off x="900000" y="1916280"/>
            <a:ext cx="3125880" cy="46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Жив"/>
          <p:cNvPicPr/>
          <p:nvPr/>
        </p:nvPicPr>
        <p:blipFill>
          <a:blip r:embed="rId3"/>
          <a:stretch/>
        </p:blipFill>
        <p:spPr>
          <a:xfrm>
            <a:off x="5076720" y="1905120"/>
            <a:ext cx="2590920" cy="224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Гриб"/>
          <p:cNvPicPr/>
          <p:nvPr/>
        </p:nvPicPr>
        <p:blipFill>
          <a:blip r:embed="rId4"/>
          <a:stretch/>
        </p:blipFill>
        <p:spPr>
          <a:xfrm>
            <a:off x="5076720" y="4221000"/>
            <a:ext cx="2570400" cy="22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надеемся, что, Вы, заметили сходство между растительной, животной и грибной клет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чем свидетельствует  это сходств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4:17:49Z</dcterms:created>
  <dc:creator>User</dc:creator>
  <dc:description/>
  <dc:language>en-US</dc:language>
  <cp:lastModifiedBy>Customer</cp:lastModifiedBy>
  <dcterms:modified xsi:type="dcterms:W3CDTF">2012-02-11T16:56:57Z</dcterms:modified>
  <cp:revision>9</cp:revision>
  <dc:subject/>
  <dc:title>Цитология </dc:title>
</cp:coreProperties>
</file>