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BF9-7970-42BB-AB9A-139D63C4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1F5-787D-4A78-90F7-40F6392E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618-8A62-4223-9933-C6F9591C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6C2-EA58-4BB2-9941-A355088D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70B4-853A-40D3-AB13-7CA7202C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B1AC-F9FB-4C03-BAC8-7DE52D4F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8624-F7EA-4AB1-AE95-4B5EC78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464-6C76-4F82-A961-158499D9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9D47-E75E-4F79-B18C-762EDDB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0514-31EC-43DB-AE9E-A822489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312-6708-4676-AC76-E5E5E20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DD1-8C6F-489D-AB92-5C12D10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E414-D565-49FF-A774-BB4B544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0C4-EB37-45A0-85D5-37AE773B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C40D-2490-44EC-9C78-6EC0A2E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7746-9A4F-48B1-B767-3C38784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1A19-830A-4EA3-9FEA-7ED9D024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C77-7BA0-49AF-95BB-C4CD97B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A90-7F9F-40F0-A296-9ECBDBB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026-65F6-4078-AC49-942AE50B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F53-1734-4B4B-B2D6-A143F8C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3EA-CB5C-4B26-961E-8006241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554-99D5-45FB-9986-04F5AC08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74F-3677-4DCB-A94F-20D8E96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2FC-DA82-4BBE-959A-DB5E3E9C7AF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AFD6-8171-4E54-869A-657BB75B6D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50;&#1083;&#1077;&#1090;&#1086;&#1095;&#1085;&#1086;&#1077;_&#1103;&#1076;&#1088;&#1086;" TargetMode="External"/><Relationship Id="rId4" Type="http://schemas.openxmlformats.org/officeDocument/2006/relationships/hyperlink" Target="http://ru.wikipedia.org/wiki/&#1044;&#1053;&#1050;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Comic Sans MS"/>
              </a:rPr>
              <a:t>ЯДР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36160" y="2188800"/>
            <a:ext cx="7464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mic Sans MS"/>
              </a:rPr>
              <a:t>ЯДРО (клеточное ядро)</a:t>
            </a: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,обязательная часть клетки у многих одноклеточных и всех многоклеточных организмов. Размеры от 1 мкм (у некоторых простейших) до 1 мм (в яйцах некоторых рыб и земноводных). Термин «ядро» (лат. nucleus) впервые применил Р. Броун в 1833 году, когда описывал шарообразные структуры, наблюдаемые им в клетках растени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2814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Tahoma"/>
              </a:rPr>
              <a:t>ЯДРО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155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816360" cy="273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4365720"/>
            <a:ext cx="4967280" cy="2189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Функ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Хранение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ередач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эукариотическая клетка"/>
          <p:cNvPicPr/>
          <p:nvPr/>
        </p:nvPicPr>
        <p:blipFill>
          <a:blip r:embed="rId2"/>
          <a:stretch/>
        </p:blipFill>
        <p:spPr>
          <a:xfrm>
            <a:off x="0" y="0"/>
            <a:ext cx="1054080" cy="95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1125360"/>
            <a:ext cx="417492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Клеточное ядр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держит молекулы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ДН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на которых записана генетическая информация организма. Сборка рибосом  происходит в ядре, в специальных образованиях, называемых ядрышками. Компартмент для ядра — кариотека — образован за счет расширения и слияния друг с другом цистерн эндоплазматической се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8360" y="189000"/>
          <a:ext cx="50652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8360" y="189000"/>
                    <a:ext cx="506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3:58:38Z</dcterms:created>
  <dc:creator>User</dc:creator>
  <dc:description/>
  <dc:language>en-US</dc:language>
  <cp:lastModifiedBy>User</cp:lastModifiedBy>
  <dcterms:modified xsi:type="dcterms:W3CDTF">2007-12-14T03:59:14Z</dcterms:modified>
  <cp:revision>1</cp:revision>
  <dc:subject/>
  <dc:title>ЯДРО</dc:title>
</cp:coreProperties>
</file>