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DD8-48B8-4100-80D6-1D7F3279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71A-4292-442F-A60A-C9B3AF5B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3A1-A41D-444F-8066-8FE22979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8F7-1633-4157-A5F6-DDB17699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73FA-F848-49DD-B26F-8D8C4768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B5DA-A69A-43DA-88C3-9E149F30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AA46-8F33-495B-9745-4C8B6AD1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DB7C-30FE-474E-AAE6-CCACC9BA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56B-E76E-430F-8F5A-E4B52336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81BA-8933-42B3-8D3F-6B06863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153B-D205-420C-9F57-7605D93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0DA-2AD4-40D5-B61A-0637C974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BA6C-06F9-4B18-B92C-53D6B0B0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9E4C-0C3A-447E-8E9D-69C19EC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76CC-5833-4363-86AF-93089D27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83FD-B589-4E89-8DF6-D0C55212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B780-1227-49FA-9F9A-566948DF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F9A-C1AC-443D-92DB-23EEB7BC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48C-D3DF-4A14-BC23-6ADC705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952-7043-4FE4-8075-1CB8827A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B50-119F-4B07-A9B7-CCB31878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C12-A60F-42E4-97D5-FE52BE11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884-FCEE-4C65-A861-18398DE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245-66BA-4804-A9B1-0D37A7A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A155-64DE-46AD-BF1F-E1D114A5BD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7F50-11EA-4CA3-9728-90674553D0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леточный цент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имает участие в делении клеток животных и низших растений. В начале деления (в профазе) центриоли расходятся к разным полюсам клетки. От центриолей к центромерам хромосом отходят нити веретена деления. В анафазе эти нити притягивают хроматиды к полюсам. После окончания деления центриоли остаются в дочерних клетках. Удваиваются и образуют клеточный цент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952640" y="147600"/>
            <a:ext cx="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09010406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45600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260280"/>
          <a:ext cx="38088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0280"/>
                    <a:ext cx="38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9280" y="69840"/>
            <a:ext cx="45594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omic Sans MS"/>
              </a:rPr>
              <a:t>Ультрамикроскопическая органелла немембранного строения. Состоит из двух центриолей. Каждая имеет цилиндрическую форму, стенки образованы девятью триплетами трубочек, а в середине находится однородное вещество. Центриоли расположены перпендикулярно друг другу.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47628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Клеточны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435780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68360" y="2492280"/>
            <a:ext cx="1942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3:37:18Z</dcterms:created>
  <dc:creator>User</dc:creator>
  <dc:description/>
  <dc:language>en-US</dc:language>
  <cp:lastModifiedBy>User</cp:lastModifiedBy>
  <dcterms:modified xsi:type="dcterms:W3CDTF">2007-12-17T17:56:42Z</dcterms:modified>
  <cp:revision>5</cp:revision>
  <dc:subject/>
  <dc:title>Слайд 1</dc:title>
</cp:coreProperties>
</file>