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436-D1D7-445B-967B-0E67B2F4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8D5-0A89-4572-A5E7-82C0A957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E12-83D9-43B7-B195-53456A81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A9B-8035-4D71-B4D3-9BFA24C6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F1C5-6F8E-41D6-AE06-05E5EC0F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BC5B-AE9E-4C4D-8E8C-5A4A786C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681C-9962-42AF-BA57-11D36061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8173-7B4E-493D-B3D9-BE2B12ED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F96D-92E9-4A52-B35F-3130CA65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FBB6-002B-48CA-97CB-6E0FBC9D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12CB-AADE-4A9A-ACE4-401E16ED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416-0550-4D4B-A45A-AE7D724D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1E54-9137-445D-A357-9D10350F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FA50-8BA4-4D40-BE6D-EC0950D9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A446-2587-4978-9A7C-F7704E92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3573-27FE-40B2-B57A-9A0FCA51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C1B1-F0A9-4EC3-B839-8FE4AD6E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B66-ECCA-4847-94DC-4365139D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6B0-44FC-46D4-9F5E-A3C11688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BBF-1067-4F18-9521-57184754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33F-FD93-4BEA-9B66-85E0A21E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CAA-02EB-4B8F-8D88-346257B4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93A-F21F-41D8-B7BA-BCD1D1A3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CC2-C84C-4A46-BE74-A86C5718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96B9-0893-4E05-89CB-DB7A7D47D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86CA-761F-4A24-BBE8-53742103E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2400" spc="-1" strike="noStrike">
                <a:solidFill>
                  <a:srgbClr val="336666"/>
                </a:solidFill>
                <a:latin typeface="Arial Black"/>
              </a:rPr>
              <a:t>Карта контроля знаний по теме «Клетка» </a:t>
            </a:r>
            <a:br>
              <a:rPr sz="2400"/>
            </a:br>
            <a:r>
              <a:rPr b="1" lang="ru-RU" sz="1200" spc="-1" strike="noStrike">
                <a:solidFill>
                  <a:srgbClr val="336666"/>
                </a:solidFill>
                <a:latin typeface="Arial Black"/>
              </a:rPr>
              <a:t>Правильное, точное, обоснованное и аргументированное </a:t>
            </a:r>
            <a:br>
              <a:rPr sz="1200"/>
            </a:br>
            <a:r>
              <a:rPr b="1" lang="ru-RU" sz="1200" spc="-1" strike="noStrike">
                <a:solidFill>
                  <a:srgbClr val="336666"/>
                </a:solidFill>
                <a:latin typeface="Arial Black"/>
              </a:rPr>
              <a:t>выполнение всех заданий на основе анализа и синтеза имеющихся знаний оценивается “5”; </a:t>
            </a:r>
            <a:br>
              <a:rPr sz="1200"/>
            </a:br>
            <a:r>
              <a:rPr b="1" lang="ru-RU" sz="1200" spc="-1" strike="noStrike">
                <a:solidFill>
                  <a:srgbClr val="336666"/>
                </a:solidFill>
                <a:latin typeface="Arial Black"/>
              </a:rPr>
              <a:t>Правильное, но слабо аргументированное выполнение заданий – “4”; </a:t>
            </a:r>
            <a:br>
              <a:rPr sz="1200"/>
            </a:br>
            <a:r>
              <a:rPr b="1" lang="ru-RU" sz="1200" spc="-1" strike="noStrike">
                <a:solidFill>
                  <a:srgbClr val="336666"/>
                </a:solidFill>
                <a:latin typeface="Arial Black"/>
              </a:rPr>
              <a:t>Неполное, неточное не аргументированное выполнение заданий – “3”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 А -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ыберите по одному правильному ответу для каждого задан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1 Клетки всех живых организмов сходны по строению и химическому составу, что свидетельствует 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роисхождении живого из неживой прир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едином происхождении всего жи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пособности клеток к фотосинтез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ходных процессах обмена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2 Комплекс Гольджи отсутствует в клетка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гриб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раст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живо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 А -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ыберите по одному правильному ответу для каждого задан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1 Транспорт веществ в клетку осуществля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ластид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итохондр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клеточной мембра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лизосом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2 К двумембранным органоидам относи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рибос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итохонд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ЭП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лизос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 Black"/>
              </a:rPr>
              <a:t>Часть В. Установите соответствие между характеристикой и органоидом клетки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ппарат Гольдж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канальцев, пронизывающих цитоплаз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уплощенных мембранных цилиндров и пузырь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ет накопление веществ в клет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мембранах могут размещаться рибосо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аствует в формировании лизос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ет перемещение органических веществ в клет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П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канальцев, пронизывающих цитоплаз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уплощенных мембранных цилиндров и пузырь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ет накопление веществ в клет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мембранах могут размещаться рибосо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аствует в формировании лизос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ет перемещение органических веществ в клет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 Black"/>
              </a:rPr>
              <a:t>Часть С. Сравните эукариотические клетки, найдите черты сходства и различи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м растительная клетка отличается от животно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м животная клетка отличается от грибно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 Black"/>
              </a:rPr>
              <a:t>Воспроизведите логическую последовательность текста, являющегося ключевой фразой семинар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3640" y="1916280"/>
            <a:ext cx="3772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916280"/>
            <a:ext cx="3745080" cy="576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етка является основ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3640" y="2637000"/>
            <a:ext cx="3745080" cy="504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стоят из клеток, жиз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3640" y="3284640"/>
            <a:ext cx="3745080" cy="576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заимодейств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ставляющих его клет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4076640"/>
            <a:ext cx="3745080" cy="504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диницей жиз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организ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4724280"/>
            <a:ext cx="3745080" cy="50508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ной и функциона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5373720"/>
            <a:ext cx="3818160" cy="57636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ма в целом обуслов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Схема строения растительной клетки"/>
          <p:cNvPicPr/>
          <p:nvPr/>
        </p:nvPicPr>
        <p:blipFill>
          <a:blip r:embed="rId1"/>
          <a:stretch/>
        </p:blipFill>
        <p:spPr>
          <a:xfrm>
            <a:off x="762120" y="1973160"/>
            <a:ext cx="3771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18:03:37Z</dcterms:created>
  <dc:creator>user</dc:creator>
  <dc:description/>
  <dc:language>en-US</dc:language>
  <cp:lastModifiedBy>user</cp:lastModifiedBy>
  <dcterms:modified xsi:type="dcterms:W3CDTF">2008-10-16T15:51:37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