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9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Impact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835-0CF9-425A-9A91-DD0118476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6EFC-557E-4421-85F3-756651C7A6E3}" type="slidenum">
              <a:rPr b="0" lang="ru-RU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AB9-84E2-4C9F-B77D-CD1EC4FFDEEC}" type="slidenum">
              <a:rPr b="0" lang="ru-RU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FF1-4E0C-46CE-B0D7-5AD1EF9E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4A2-71DE-4B3B-8DE7-E63D5D7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F8E-6528-46A3-BA50-42CD20CF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36C-7491-43F6-9DC2-4A701582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EDE34-A017-4A0D-BF28-3449B94D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3D58-28A4-40E2-BE13-565ADFBF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FEA68-7356-4FFA-A2BC-E1E900C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51338-AC76-4390-A82C-E24E69BB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F89F3-8489-4815-A7A5-3B30629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34922-6F2E-4ED3-80A0-368A9870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E98C-5C5A-4E15-ADC4-C8E9C2D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6A7-7A7C-4DE3-AC0B-35B09122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63052-089A-418D-B283-E90F7E8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10C4-0BF5-4006-8034-D846C52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0D13-63D2-4BF6-99AE-05CC12B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2E508-1477-405E-BE6E-5C28B76A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0612-424A-4491-8C6A-D4CDFBE7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2B89-8A1E-4CCF-80F1-7894759A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0BE0-5DF8-440A-A7C7-DB998A61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07D5-B5FF-43AD-B627-DD7BA69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89CB-4F32-4C37-89CA-CA43E73C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8186-A46B-43C1-B0A0-BEAF9680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6AA-A600-4CD8-8DE4-6CF01052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694A-38A1-4C42-9D6A-36E4CCA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4F70-2D4C-4657-967F-10E6912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EB18-80EA-4F6D-840A-D811665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5349-C0D2-4FEE-B76B-F1BBE78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B80F-0D69-46DD-921C-C328B8D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1734-721B-48A2-9284-25DB689C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19FD-1DF6-4466-AA08-0C2662D4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B7FE1-B959-49DF-9A8A-9A400CF9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102BB-204E-4791-9A37-5D5AEB28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76D69-CAC2-4D5D-9224-DB6E967F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654-3E54-46F8-BC5B-65FC7A7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3CE01-BACA-4388-9050-096652F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B8A5D-A4F9-4193-A9F2-01283949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1AE84-E735-46E7-8E73-11EBC6D1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3D52A-322E-4EF0-ABA2-A16422F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1712A-BDA5-4748-A4C6-22317CB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5D7DA-DAC7-458A-95D4-4727883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AE3C2-1CFD-4A71-B5D2-48D69A5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8A081-38D2-4143-8722-A31B53F7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4821E-3CD6-4367-91BD-11ABA4CC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046-324A-4370-8C05-CD02FFA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467-CDE1-4D9F-8C06-B35E4A8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B60-C63E-4C6A-980E-3FCF6A1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1E3-CD60-4AE2-8003-AA3DFFD6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E14-5BA1-448E-B598-B96C417D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c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56A-F7D3-4106-B51C-039CF639B574}" type="slidenum"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Impact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4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4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c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Impact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F2D-D54F-4A66-93D5-1972DDA84CA9}" type="slidenum"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c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Impact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DC3A-FAA8-4765-9211-62A1CA9C909A}" type="slidenum"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4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4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c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e1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Impact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9A4B-5C98-4243-966E-FB09CBD699B5}" type="slidenum"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88;&#1080;&#1083;&#1086;&#1078;&#1077;&#1085;&#1080;&#1077;%201.doc" TargetMode="External"/><Relationship Id="rId3" Type="http://schemas.openxmlformats.org/officeDocument/2006/relationships/hyperlink" Target="file:///&#1055;&#1088;&#1080;&#1083;&#1086;&#1078;&#1077;&#1085;&#1080;&#1077;%202%20.doc" TargetMode="External"/><Relationship Id="rId4" Type="http://schemas.openxmlformats.org/officeDocument/2006/relationships/hyperlink" Target="file:///&#1055;&#1088;&#1080;&#1083;&#1086;&#1078;&#1077;&#1085;&#1080;&#1077;%203.doc" TargetMode="External"/><Relationship Id="rId5" Type="http://schemas.openxmlformats.org/officeDocument/2006/relationships/hyperlink" Target="file:///&#1055;&#1088;&#1080;&#1083;&#1086;&#1078;&#1077;&#1085;&#1080;&#1077;%204.doc" TargetMode="External"/><Relationship Id="rId6" Type="http://schemas.openxmlformats.org/officeDocument/2006/relationships/hyperlink" Target="file:///&#1055;&#1088;&#1080;&#1083;&#1086;&#1078;&#1077;&#1085;&#1080;&#1077;%204.doc" TargetMode="External"/><Relationship Id="rId7" Type="http://schemas.openxmlformats.org/officeDocument/2006/relationships/hyperlink" Target="file:///&#1055;&#1088;&#1080;&#1083;&#1086;&#1078;&#1077;&#1085;&#1080;&#1077;%205.doc" TargetMode="External"/><Relationship Id="rId8" Type="http://schemas.openxmlformats.org/officeDocument/2006/relationships/hyperlink" Target="file:///&#1055;&#1088;&#1080;&#1083;&#1086;&#1078;&#1077;&#1085;&#1080;&#1077;%206.doc" TargetMode="External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4653000"/>
            <a:ext cx="83059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Times New Roman"/>
              </a:rPr>
              <a:t>Работу выполнила Забавина Мария</a:t>
            </a:r>
            <a:r>
              <a:rPr b="1" lang="en-US" sz="20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03152"/>
                </a:solidFill>
                <a:latin typeface="Times New Roman"/>
              </a:rPr>
              <a:t>учащаяся 10а класса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Times New Roman"/>
              </a:rPr>
              <a:t>ГБУ ОШИ «Губернаторский многопрофильный лицей-интернат для одаренных детей Оренбуржья»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Times New Roman"/>
              </a:rPr>
              <a:t>Руководитель Забавина Светлана Витальевна,  учитель биологии высшей категории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7200" y="549360"/>
            <a:ext cx="8381880" cy="4754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D:\мои документы\Светик\исследовательские работы\Они живы, пока мы помним\фото и работа\Фото с флешки\S5000102.JPG"/>
          <p:cNvPicPr/>
          <p:nvPr/>
        </p:nvPicPr>
        <p:blipFill>
          <a:blip r:embed="rId3"/>
          <a:stretch/>
        </p:blipFill>
        <p:spPr>
          <a:xfrm>
            <a:off x="30978360" y="22155120"/>
            <a:ext cx="15210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Марк Бернес_Журавли (минус).mp3" descr=""/>
          <p:cNvPicPr/>
          <p:nvPr/>
        </p:nvPicPr>
        <p:blipFill>
          <a:blip r:embed="rId4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5"/>
          <a:stretch/>
        </p:blipFill>
        <p:spPr>
          <a:xfrm>
            <a:off x="250920" y="519120"/>
            <a:ext cx="8588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1. Мы создали  </a:t>
            </a:r>
            <a:r>
              <a:rPr b="1" lang="ru-RU" sz="1800" spc="-1" strike="noStrike">
                <a:solidFill>
                  <a:srgbClr val="600000"/>
                </a:solidFill>
                <a:latin typeface="Times New Roman"/>
              </a:rPr>
              <a:t>список участников ВОВ, умерших в послевоенное время. В списке 235  ветеранов ВОВ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2"/>
              </a:rPr>
              <a:t>(Приложение 1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00000"/>
                </a:solidFill>
                <a:latin typeface="Times New Roman"/>
              </a:rPr>
              <a:t>2. </a:t>
            </a: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Собрали  </a:t>
            </a:r>
            <a:r>
              <a:rPr b="1" lang="ru-RU" sz="1800" spc="-1" strike="noStrike">
                <a:solidFill>
                  <a:srgbClr val="600000"/>
                </a:solidFill>
                <a:latin typeface="Times New Roman"/>
              </a:rPr>
              <a:t>биографические данные об  участниках  ВОВ, умерших в послевоенное время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3"/>
              </a:rPr>
              <a:t>(Приложение 2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3. Составили   </a:t>
            </a:r>
            <a:r>
              <a:rPr b="1" lang="ru-RU" sz="1800" spc="-1" strike="noStrike">
                <a:solidFill>
                  <a:srgbClr val="600000"/>
                </a:solidFill>
                <a:latin typeface="Times New Roman"/>
              </a:rPr>
              <a:t>список ныне здравствующих участников ВОВ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4"/>
              </a:rPr>
              <a:t>(Приложение 3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4. Записали воспоминания оставшихся в живых ветеранов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5. При активном содействии   ветерана ВОВ </a:t>
            </a:r>
            <a:r>
              <a:rPr b="1" lang="ru-RU" sz="1800" spc="-1" strike="noStrike">
                <a:solidFill>
                  <a:srgbClr val="600000"/>
                </a:solidFill>
                <a:latin typeface="Times New Roman"/>
              </a:rPr>
              <a:t>Вичева Михаила Романовича</a:t>
            </a: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 были восстановлены   ФИО  ветеранов ВОВ,  запечатленных на снимке  А.П.  Калгдина 9.05.1985 года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5"/>
              </a:rPr>
              <a:t>.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6"/>
              </a:rPr>
              <a:t>(Приложение 4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6. Собрали и оформили воспоминания родственников и односельчан об участниках ВОВ,  вернувшихся  домой живыми и умерших в послевоенное время 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7"/>
              </a:rPr>
              <a:t>(Приложение 5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7. Оформили сведения об участии фронтовиков в восстановлении народного хозяйства в послевоенное время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hlinkClick r:id="rId8"/>
              </a:rPr>
              <a:t>(Приложение 6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8. Исследовательскую работу  направили в Ивановский сельский совет, совет ветеранов Тюльганского района, в Ивановскую среднюю общеобразовательную школу, музей Тюльганского района 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00"/>
                </a:solidFill>
                <a:latin typeface="Times New Roman"/>
              </a:rPr>
              <a:t>(Приложение 7)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9"/>
          <a:stretch/>
        </p:blipFill>
        <p:spPr>
          <a:xfrm>
            <a:off x="457200" y="152280"/>
            <a:ext cx="822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pic>
        <p:nvPicPr>
          <p:cNvPr id="216" name="Рисунок 1" descr="Image1"/>
          <p:cNvPicPr/>
          <p:nvPr/>
        </p:nvPicPr>
        <p:blipFill>
          <a:blip r:embed="rId3"/>
          <a:stretch/>
        </p:blipFill>
        <p:spPr>
          <a:xfrm>
            <a:off x="-266760" y="0"/>
            <a:ext cx="9447120" cy="7029360"/>
          </a:xfrm>
          <a:prstGeom prst="rect">
            <a:avLst/>
          </a:prstGeom>
          <a:ln w="0">
            <a:noFill/>
          </a:ln>
        </p:spPr>
      </p:pic>
      <p:sp>
        <p:nvSpPr>
          <p:cNvPr id="217" name="Овал 4"/>
          <p:cNvSpPr/>
          <p:nvPr/>
        </p:nvSpPr>
        <p:spPr>
          <a:xfrm>
            <a:off x="1908000" y="4869000"/>
            <a:ext cx="863640" cy="108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18" name="Блок-схема: альтернативный процесс 5"/>
          <p:cNvSpPr/>
          <p:nvPr/>
        </p:nvSpPr>
        <p:spPr>
          <a:xfrm>
            <a:off x="1908000" y="4869000"/>
            <a:ext cx="863640" cy="936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-266760" y="3514680"/>
            <a:ext cx="4118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3851280" y="3514680"/>
            <a:ext cx="27367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6588000" y="3514680"/>
            <a:ext cx="255600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22" name="Стрелка влево 1"/>
          <p:cNvSpPr/>
          <p:nvPr/>
        </p:nvSpPr>
        <p:spPr>
          <a:xfrm>
            <a:off x="250920" y="6381720"/>
            <a:ext cx="649080" cy="36036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dbeef4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278604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</a:rPr>
              <a:t>Начатая работа пополняется новыми библиографическими данными из жизни фронтовиков, документами из семейных архивов, воспоминаниями детей и родственников ветеранов. </a:t>
            </a: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</a:rPr>
              <a:t>Происходит  уточнение дат, ФИО ветеранов,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</a:rPr>
              <a:t> вернувшихся домой живыми и умерших в послевоенное время.</a:t>
            </a: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</a:rPr>
              <a:t>Работа имеет смысл, если хотя бы один из внуков и правнуков найдет в списках участников ВОВ, фамилию  своего деда, прадеда, сохранит для своих детей память о нем.</a:t>
            </a: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</a:rPr>
              <a:t>Мы участвуем в создании книги Памяти Тюльганского  района</a:t>
            </a:r>
            <a:endParaRPr b="0" lang="en-US" sz="1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2"/>
          <a:stretch/>
        </p:blipFill>
        <p:spPr>
          <a:xfrm>
            <a:off x="457200" y="9216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S5000098"/>
          <p:cNvPicPr/>
          <p:nvPr/>
        </p:nvPicPr>
        <p:blipFill>
          <a:blip r:embed="rId3"/>
          <a:stretch/>
        </p:blipFill>
        <p:spPr>
          <a:xfrm>
            <a:off x="92880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3071880" y="2286000"/>
            <a:ext cx="300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onstantia"/>
              </a:rPr>
              <a:t>Обелиск Славы в селе Ивановка</a:t>
            </a:r>
            <a:endParaRPr b="0" lang="en-US" sz="14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2" descr=""/>
          <p:cNvPicPr/>
          <p:nvPr/>
        </p:nvPicPr>
        <p:blipFill>
          <a:blip r:embed="rId2"/>
          <a:stretch/>
        </p:blipFill>
        <p:spPr>
          <a:xfrm>
            <a:off x="0" y="1627200"/>
            <a:ext cx="9144000" cy="36464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435640" y="692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D:\Исследовательская работа Москва\1ч-.jpg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7182000"/>
          </a:xfrm>
          <a:prstGeom prst="rect">
            <a:avLst/>
          </a:prstGeom>
          <a:ln w="0">
            <a:noFill/>
          </a:ln>
        </p:spPr>
      </p:pic>
      <p:sp>
        <p:nvSpPr>
          <p:cNvPr id="230" name="Стрелка влево 6"/>
          <p:cNvSpPr/>
          <p:nvPr/>
        </p:nvSpPr>
        <p:spPr>
          <a:xfrm>
            <a:off x="395280" y="6093000"/>
            <a:ext cx="936720" cy="576000"/>
          </a:xfrm>
          <a:prstGeom prst="leftArrow">
            <a:avLst>
              <a:gd name="adj1" fmla="val 50000"/>
              <a:gd name="adj2" fmla="val 50030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61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pic>
        <p:nvPicPr>
          <p:cNvPr id="233" name="Picture 2" descr="D:\Исследовательская работа Москва\2ч-.jpg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лево 4"/>
          <p:cNvSpPr/>
          <p:nvPr/>
        </p:nvSpPr>
        <p:spPr>
          <a:xfrm>
            <a:off x="395280" y="6093000"/>
            <a:ext cx="936720" cy="576000"/>
          </a:xfrm>
          <a:prstGeom prst="leftArrow">
            <a:avLst>
              <a:gd name="adj1" fmla="val 50000"/>
              <a:gd name="adj2" fmla="val 50030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1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Impact"/>
            </a:endParaRPr>
          </a:p>
        </p:txBody>
      </p:sp>
      <p:pic>
        <p:nvPicPr>
          <p:cNvPr id="237" name="Picture 3" descr="D:\Исследовательская работа Москва\3ч--.jpg"/>
          <p:cNvPicPr/>
          <p:nvPr/>
        </p:nvPicPr>
        <p:blipFill>
          <a:blip r:embed="rId3"/>
          <a:stretch/>
        </p:blipFill>
        <p:spPr>
          <a:xfrm>
            <a:off x="-49320" y="25560"/>
            <a:ext cx="9193320" cy="6832440"/>
          </a:xfrm>
          <a:prstGeom prst="rect">
            <a:avLst/>
          </a:prstGeom>
          <a:ln w="0">
            <a:noFill/>
          </a:ln>
        </p:spPr>
      </p:pic>
      <p:sp>
        <p:nvSpPr>
          <p:cNvPr id="238" name="Стрелка влево 5"/>
          <p:cNvSpPr/>
          <p:nvPr/>
        </p:nvSpPr>
        <p:spPr>
          <a:xfrm>
            <a:off x="395280" y="6093000"/>
            <a:ext cx="936720" cy="576000"/>
          </a:xfrm>
          <a:prstGeom prst="leftArrow">
            <a:avLst>
              <a:gd name="adj1" fmla="val 50000"/>
              <a:gd name="adj2" fmla="val 50030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61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356840"/>
            <a:ext cx="84009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9 мая 2010 года праздновался юбилей великой даты – 65 лет Победы народа над фашисткой Германией.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Большая работа проведена историками, исследователями по выявлению участников ВОВ погибших на фронтах.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Их имена занесены на мемориальные плиты районного и областного обелиска Славы, в областную Книгу Памяти.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Тех, кто остался в живых приглашали на вечера в школы, чествовали на линейках, митингах.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О  тех, кто умер в тяжелое послевоенное время,  забыли.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Кто умер в послевоенное время  до 1991 года, военкоматами  не были выделены средства на установку памятников, так как они умерли  еще в  Советском Союзе…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Их жены не получили статус вдов ветеранов войны.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00000"/>
                </a:solidFill>
                <a:latin typeface="Times New Roman"/>
              </a:rPr>
              <a:t>Семьи не пользовалась никакими льготами.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Заголовок 3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3" descr=""/>
          <p:cNvPicPr/>
          <p:nvPr/>
        </p:nvPicPr>
        <p:blipFill>
          <a:blip r:embed="rId2"/>
          <a:stretch/>
        </p:blipFill>
        <p:spPr>
          <a:xfrm>
            <a:off x="328680" y="133200"/>
            <a:ext cx="8491320" cy="1238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143160" y="857160"/>
            <a:ext cx="57866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С территории Ивановского сельского совета были призваны на войну более 540 человек, вернулись 239.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В Ивановском сельском совете на конец 2009 года официально зарегистрировано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11 фамилий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фронтовиков, вернувшихся домой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На Ивановском сельском кладбище  похоронены мой прадед Константин Максимович Карякин и прапрадед Алексей Иванович Коняхин. Они – фронтовики ВОВ; с 22 июня 1941 года до осени 1945 года  были в действующей армии.   На могилах многих фронтовиков мраморные памятники, а у моих прадедов – скромный обелиск из металла и деревянный крест. Почему не всем поставили мраморные памятники? Памятники стоят у фронтовиков, которые умерли после  1991 года. Открыли книгу памяти.  В книге длинный список погибших из сел Ивановка, Рудное , хутора Холодный Ключ. Их фамилии увековечены на обелиске около сельского клуба. 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О тех, кто вернулся домой живым, кто отдал все силы на восстановление народного хозяйства в тяжелое послевоенное время,  нет никаких сведений.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6" name="Picture 2" descr="D:\мои документы\Светик\исследовательские работы\Они живы, пока мы помним\фронтовики1\S5000014.JPG"/>
          <p:cNvPicPr/>
          <p:nvPr/>
        </p:nvPicPr>
        <p:blipFill>
          <a:blip r:embed="rId3"/>
          <a:stretch/>
        </p:blipFill>
        <p:spPr>
          <a:xfrm>
            <a:off x="1000080" y="3643200"/>
            <a:ext cx="1608120" cy="2071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D:\мои документы\Светик\исследовательские работы\Они живы, пока мы помним\фото и работа\Фото с флешки\S5000102.JPG"/>
          <p:cNvPicPr/>
          <p:nvPr/>
        </p:nvPicPr>
        <p:blipFill>
          <a:blip r:embed="rId4"/>
          <a:stretch/>
        </p:blipFill>
        <p:spPr>
          <a:xfrm>
            <a:off x="30826080" y="22002840"/>
            <a:ext cx="1521000" cy="20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мои документы\Светик\исследовательские работы\Они живы, пока мы помним\фото и работа\Фото с флешки\S5000102.JPG"/>
          <p:cNvPicPr/>
          <p:nvPr/>
        </p:nvPicPr>
        <p:blipFill>
          <a:blip r:embed="rId5"/>
          <a:stretch/>
        </p:blipFill>
        <p:spPr>
          <a:xfrm>
            <a:off x="30978360" y="22155120"/>
            <a:ext cx="1521000" cy="2028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S5000092"/>
          <p:cNvPicPr/>
          <p:nvPr/>
        </p:nvPicPr>
        <p:blipFill>
          <a:blip r:embed="rId6"/>
          <a:stretch/>
        </p:blipFill>
        <p:spPr>
          <a:xfrm>
            <a:off x="971640" y="836640"/>
            <a:ext cx="16524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500040" y="3000240"/>
            <a:ext cx="271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onstantia"/>
              </a:rPr>
              <a:t>прадед Карякин </a:t>
            </a:r>
            <a:endParaRPr b="0" lang="en-US" sz="1600" spc="-1" strike="noStrike">
              <a:solidFill>
                <a:srgbClr val="ff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onstantia"/>
              </a:rPr>
              <a:t>Константин Максимович</a:t>
            </a:r>
            <a:endParaRPr b="0" lang="en-US" sz="1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85840" y="5715000"/>
            <a:ext cx="32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onstantia"/>
              </a:rPr>
              <a:t>прапрадед Коняхин</a:t>
            </a:r>
            <a:endParaRPr b="0" lang="en-US" sz="1600" spc="-1" strike="noStrike">
              <a:solidFill>
                <a:srgbClr val="ff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onstantia"/>
              </a:rPr>
              <a:t>Алексей Иванович</a:t>
            </a:r>
            <a:endParaRPr b="0" lang="en-US" sz="16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81880" cy="1189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539640" y="1523880"/>
            <a:ext cx="835344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Цель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000"/>
                </a:solidFill>
                <a:latin typeface="Times New Roman"/>
              </a:rPr>
              <a:t>выявить   участников ВОВ</a:t>
            </a:r>
            <a:r>
              <a:rPr b="0" lang="ru-RU" sz="2400" spc="-1" strike="noStrike">
                <a:solidFill>
                  <a:srgbClr val="7f0000"/>
                </a:solidFill>
                <a:latin typeface="Times New Roman"/>
              </a:rPr>
              <a:t>, умерших в послевоенное время и увековечить их память, передав собранные сведения в  музей Тюльганского района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ъект  исследования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0000"/>
                </a:solidFill>
                <a:latin typeface="Times New Roman"/>
              </a:rPr>
              <a:t>список участников ВОВ, мобилизованных Ивановским сельским Советом,  вернувшихся  домой живыми и умершими после войны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едмет  исследования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0000"/>
                </a:solidFill>
                <a:latin typeface="Times New Roman"/>
              </a:rPr>
              <a:t>участники ВОВ,</a:t>
            </a:r>
            <a:r>
              <a:rPr b="0" lang="ru-RU" sz="2400" spc="-1" strike="noStrike">
                <a:solidFill>
                  <a:srgbClr val="600000"/>
                </a:solidFill>
                <a:latin typeface="Times New Roman"/>
              </a:rPr>
              <a:t> вернувшиеся домой живыми и умершие после войны от ран и болезней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0012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1. Составить список участников ВОВ, умерших в послевоенное время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600000"/>
                </a:solidFill>
                <a:latin typeface="Times New Roman"/>
              </a:rPr>
              <a:t>. Собрать биографические данные </a:t>
            </a: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об  участниках  ВОВ, умерших в послевоенное время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3. Составить список ныне здравствующих участников ВОВ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4. Записать воспоминания ныне здравствующих фронтовиков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5. Восстановить ФИО  ветеранов ВОВ,  запечатленных на снимке А. П. Калгдина 9.05.1985 года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6. Собрать  сведения об участии фронтовиков в восстановлении народного хозяйства в послевоенное время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0000"/>
                </a:solidFill>
                <a:latin typeface="Times New Roman"/>
              </a:rPr>
              <a:t>7.Передать информацию в районный музей.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5" name="Заголовок 4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500040" y="1071720"/>
          <a:ext cx="8400960" cy="5594040"/>
        </p:xfrm>
        <a:graphic>
          <a:graphicData uri="http://schemas.openxmlformats.org/drawingml/2006/table">
            <a:tbl>
              <a:tblPr/>
              <a:tblGrid>
                <a:gridCol w="2714760"/>
                <a:gridCol w="5686200"/>
              </a:tblGrid>
              <a:tr h="40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onstantia"/>
                        </a:rPr>
                        <a:t>методы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циологическое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встречи и беседы с участниками ВОВ, 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одственниками фронтовиков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зучение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 анализ материалов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зучение книги Памяти Оренбургской области, том </a:t>
                      </a: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- Тюльганский район; списока погибших на мемориальных плитах около Обелиска Славы в поселке Тюльган; изучение памятных табличек фронтовиков (фотографии, даты рождения и  смерти), вернувшихся с ВОВ живыми и умерших в послевоенное время на кладбищах села Ивановки, Рудного, хутора Холодный-Ключ.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зучение семейных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 личных архивов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зучение архивных документов, учетных карточек мобилизованных на фронт с территории Ивановского сельского совета в Тюльганском и Октябрьском военкоматах; работа с архивными документами в Тюльганском Загсе. 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фотографирование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e89"/>
                          </a:solidFill>
                          <a:latin typeface="Arial"/>
                          <a:ea typeface="Arial"/>
                        </a:rPr>
                        <a:t>снимки фронтовиков, табличек на крестах и памятниках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ладбищ села Ивановки, Рудного, хутора Холодный-Ключ.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нсультирование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аботников военного комиссариата, заведующей Загса,     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частников ВОВ, председателя совета ветеранов ВОВ Тюльганского района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точнение и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рректировка данных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ФИО фронтовиков, даты рождения, смерти, награды, ранения</a:t>
                      </a:r>
                      <a:endParaRPr b="0" lang="en-US" sz="1400" spc="-1" strike="noStrike">
                        <a:solidFill>
                          <a:srgbClr val="ff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97" name="Заголовок 2" descr=""/>
          <p:cNvPicPr/>
          <p:nvPr/>
        </p:nvPicPr>
        <p:blipFill>
          <a:blip r:embed="rId2"/>
          <a:stretch/>
        </p:blipFill>
        <p:spPr>
          <a:xfrm>
            <a:off x="457200" y="115920"/>
            <a:ext cx="8229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6840" y="692280"/>
            <a:ext cx="843588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1. Знакомство  с историей и теорией вопроса: 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изучили Книгу Памяти Оренбургской области, том </a:t>
            </a:r>
            <a:r>
              <a:rPr b="0" lang="en-US" sz="1600" spc="-1" strike="noStrike">
                <a:solidFill>
                  <a:srgbClr val="254061"/>
                </a:solidFill>
                <a:latin typeface="Times New Roman"/>
              </a:rPr>
              <a:t>VI</a:t>
            </a: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 -  Тюльганский район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изучили список погибших на мемориальных плитах Обелиска Славы  поселка Тюльган;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изучили памятные таблички фронтовиков (фотографии, даты рождения и  смерти), вернувшихся с ВОВ живыми и умерших в послевоенное время на кладбищах сел Ивановка, Рудное, хутора Холодный-Ключ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2. Работа с архивными документами: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изучили архивные документы  учетные карточки мобилизованных на фронт с территории Ивановского сельского совета в Тюльганском и Октябрьском военкоматах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работали с архивными документами в Тюльганском Загсе. Уточнили даты смерти участников ВОВ, умерших в послевоенное время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3. Накопление материала: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встретились с участниками  ВОВ: Вичевым Михаилом Романовичем, Карякиным Николаем Васильевичем, Денисовым  Василием Иосифовичем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встретились  с родственниками ветеранов ВОВ, умерших в послевоенное время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изучили  учетные карточки военнообязанных в Октябрьском военкомате;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собрали фотоматериал об участниках ВОВ, вернувшихся домой живыми и умерших в послевоенное время из семейных архивов родственников фронтовиков, памятных табличек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Times New Roman"/>
              </a:rPr>
              <a:t>уточнили  места захоронения участников ВОВ, умерших в послевоенное время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69800" y="-317520"/>
            <a:ext cx="82296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4. </a:t>
            </a:r>
            <a:r>
              <a:rPr b="1" lang="ru-RU" sz="1700" spc="-1" strike="noStrike">
                <a:solidFill>
                  <a:srgbClr val="403152"/>
                </a:solidFill>
                <a:latin typeface="Times New Roman"/>
              </a:rPr>
              <a:t>Консультации у участников ВОВ и специалистов 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работников Тюльганского и Октябрьского военкоматов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заведующей Тюльганского Загса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председаталя совета ветеранов Тюльганского района Головко И.М.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председателя совета ветеранов Ивановского сельского совета Карякина В.К.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ветеранов ВОВ Вичева М.Р., Карякина Н.В., Денисова В.И.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5. </a:t>
            </a:r>
            <a:r>
              <a:rPr b="1" lang="ru-RU" sz="1700" spc="-1" strike="noStrike">
                <a:solidFill>
                  <a:srgbClr val="403152"/>
                </a:solidFill>
                <a:latin typeface="Times New Roman"/>
              </a:rPr>
              <a:t>Уточнение  и корректировка  данных: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сравнили и выверили список ветеранов, умерших в послевоенное время.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сравнили и выверили список ныне здравствующих ветеранов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уточнили даты рождение и смерти ветеранов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собрали и проанализировали биографические данные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обобщили информацию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уточнили сделанные выводы;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403152"/>
                </a:solidFill>
                <a:latin typeface="Times New Roman"/>
              </a:rPr>
              <a:t>- откорректировали работу</a:t>
            </a:r>
            <a:endParaRPr b="0" lang="en-US" sz="17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818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2" descr=""/>
          <p:cNvPicPr/>
          <p:nvPr/>
        </p:nvPicPr>
        <p:blipFill>
          <a:blip r:embed="rId2"/>
          <a:stretch/>
        </p:blipFill>
        <p:spPr>
          <a:xfrm>
            <a:off x="500040" y="176040"/>
            <a:ext cx="8113680" cy="89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G:\DCIM\100SSCAM\S5000529.JPG"/>
          <p:cNvPicPr/>
          <p:nvPr/>
        </p:nvPicPr>
        <p:blipFill>
          <a:blip r:embed="rId3"/>
          <a:stretch/>
        </p:blipFill>
        <p:spPr>
          <a:xfrm>
            <a:off x="4714920" y="928800"/>
            <a:ext cx="3174840" cy="2381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G:\DCIM\100SSCAM\S5000527.JPG"/>
          <p:cNvPicPr/>
          <p:nvPr/>
        </p:nvPicPr>
        <p:blipFill>
          <a:blip r:embed="rId4"/>
          <a:stretch/>
        </p:blipFill>
        <p:spPr>
          <a:xfrm>
            <a:off x="785880" y="10000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G:\DCIM\100SSCAM\S5000526.JPG"/>
          <p:cNvPicPr/>
          <p:nvPr/>
        </p:nvPicPr>
        <p:blipFill>
          <a:blip r:embed="rId5"/>
          <a:stretch/>
        </p:blipFill>
        <p:spPr>
          <a:xfrm>
            <a:off x="714240" y="3786120"/>
            <a:ext cx="2800440" cy="21002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8"/>
          <p:cNvSpPr/>
          <p:nvPr/>
        </p:nvSpPr>
        <p:spPr>
          <a:xfrm>
            <a:off x="571680" y="3286080"/>
            <a:ext cx="37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onstantia"/>
              </a:rPr>
              <a:t>Карякин Виталий Константинович с 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Вичевым Михаилом Романовичем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5000760" y="3429000"/>
            <a:ext cx="33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onstantia"/>
              </a:rPr>
              <a:t>Забавина Мария с 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Вичевым Михаилом Романовичем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08" name="Прямоугольник 11"/>
          <p:cNvSpPr/>
          <p:nvPr/>
        </p:nvSpPr>
        <p:spPr>
          <a:xfrm flipV="1" rot="10800000">
            <a:off x="499680" y="6025680"/>
            <a:ext cx="37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onstantia"/>
              </a:rPr>
              <a:t>Забавина Мария с 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Денисовым Василием Иосифовичем 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  <p:pic>
        <p:nvPicPr>
          <p:cNvPr id="209" name="Picture 1" descr="S5000122"/>
          <p:cNvPicPr/>
          <p:nvPr/>
        </p:nvPicPr>
        <p:blipFill>
          <a:blip r:embed="rId6"/>
          <a:stretch/>
        </p:blipFill>
        <p:spPr>
          <a:xfrm>
            <a:off x="5143680" y="3857760"/>
            <a:ext cx="2928600" cy="21193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3"/>
          <p:cNvSpPr/>
          <p:nvPr/>
        </p:nvSpPr>
        <p:spPr>
          <a:xfrm>
            <a:off x="4643280" y="6000840"/>
            <a:ext cx="41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onstantia"/>
              </a:rPr>
              <a:t>Председатель совета ветеранов Тюльганского района </a:t>
            </a: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Иван Матвеевич Головко</a:t>
            </a:r>
            <a:endParaRPr b="0" lang="en-US" sz="1200" spc="-1" strike="noStrike">
              <a:solidFill>
                <a:srgbClr val="ff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2-11T18:35:01Z</dcterms:modified>
  <cp:revision>105</cp:revision>
  <dc:subject/>
  <dc:title>Слайд 1</dc:title>
</cp:coreProperties>
</file>