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6CB-C649-4BF9-9F37-0AAB44A6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696-35DC-43FC-AC56-37009A5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1D3-FB8F-4CB5-9A27-A905728D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CDD-A0CF-46D8-8D79-4971726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6A7-A581-4039-9CC0-E2EEAC4C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0A57-7472-4338-8423-858478F8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C5C-8C4D-467E-936C-DABD23B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C05-E381-4126-A028-8DFFE7D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47B-B8C5-4849-B8EF-061E6A69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2ACA-AD33-40C3-9183-0F4FD8D6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B82C-D6DC-44FB-AB75-5DECFFD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5B4-9C18-4F9B-97E9-1663BD8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DE05-F2EE-4672-A9F3-BE446DC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0B8B-48C2-4200-8ACB-A089CC83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0FF-C8F7-45B5-9A36-0874D80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10A7-859F-44E7-865E-0E8A5B0B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1FB-A5CD-403E-81D3-964984F4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E17-8595-42FF-B3D8-F93ED46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4B2-F049-4796-94E6-2338A84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E9F-2D7D-474E-8273-72306559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5AD-3DD8-4BD1-939D-C4592692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36F-EEDB-4549-905F-BB48A7E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B56-2CFE-4F15-A6CD-08351AE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332-2C6D-49F8-84EE-30D2BC9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6A55-BD8D-472B-A595-293DB6587D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852-7D48-4D95-9ACF-09AF3FF981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Роль дворянского рода Тимашевых в истории района, области, кра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87640" y="5516640"/>
            <a:ext cx="41036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аботу выполнил Кочкин Александр учащийся 10 класса Тюльганской средней общеобразовательной школы №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7618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4. Описание фамильного герба дворянского рода Тимашевых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640" y="907920"/>
            <a:ext cx="4681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гербе изображены доспехи рыцаря и щит – неотъемлемая часть многих гербов дворян;  род, на гербе которого изображена военная амуниция (доспехи, мечи, шлемы, шпаги и т.д.) чаще всего означают, что многие представители этого рода военные - смелые, сильные люди которые не раз вступали  в схватку со смертью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раусиные перья, которыми окружены доспехи – это знак благородства, чистоты мысли, внимательности к окружающим людя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осьмиконечная звезда – знак ордена масонов, к которым принадлежали Тимашев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ебедь, пронзенный стрелой – возможно знак незащищенности и открытости душ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йствительно, герб Тимашевых во многом отражает их историю. Все они были военные. Многие из них сражались на полях сражений, двое из них (Василий и Константин), сложили свои головы на полях Отечественной войны. Тимашевы внимательно следили за своими крестьянами, и старались им помочь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637080" cy="3816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9640" y="436572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5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5. Роль рода Тимашевых в истории района, области, кр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литературе того времени упоминаются представители  старинного рода Тимашевых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Аксаков в «Семейной хронике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 П.М Кудряшов в повести «Искак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 Статьях и кратких корреспонденциях Оренбургской период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Воспоминаниях о прекрасном поместье многих видных деятелей того време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Первые упоминания от Ташле в эпистолярной литературе в письмах Г.С. Волконского, Оренбургского военного губернат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 А.С. Пушкин упоминал Тимашева в «Истории Пугачева» и в «Капитанской дочке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 А.К. Толстой  «История государства Российского от Гостомысла до Тимашев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Тимашевы участвуют в важнейших событиях Российской    истории: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ван Лаврентьевич Тимашев- директор Оренбургской пограничной таможни, участвовал в войне с Емельяном Пугачевым в составе Шешинского ладмилицкого полка, оборонял Оренбург от пугачевцев; избирался губернским предводителем дворянст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Николай Иванович Тимашев участвовал в войне с Пугачевым, дворянство края избрало его своим предводител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Егор Николаевич Тимашев участвовал в войне с Наполеоном, позднее атаман Оренбургского казачьего войска, предводитель дворян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Александр Егорович Тимашев  - генерал- адъютант, министр внутренних дел Росс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Тимашевы внесли огромный вклад в историю района области, России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литическую и экономическую истории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ван Лаврентьевич Тимашев по чину и должности своей директор Оренбургской пограничной таможни был членом Оренбургской губернской канцелярии – участвовал в решении вопросов управления губерн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лександр Егорович Тимашев министр Внутренних дел России принимал непосредственное отношение к истории. Но и остальные представители известного дворянского рода занимали не последние места в управлении краем.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ультурную историю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 Николае Ивановиче Тимашеве  была построена в 1802 году большая, красивая, белокаменная церковь, которая на долгие годы стала очагом культуры в селе Ташла. Позднее при нем же была построена земская школ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е представители известного дворянского рода Тимашевых уделяли большое внимание местным обычаям и нравам, а так же образованию своих крестьян и их здоровь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6. Сравнительный анализ состояния усадьбы Тимашевых на протяжении трех веков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нец 18 -начало 19 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ворец Тимашевых 1930-е го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ид усадьбы  (1993-2006г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952720" cy="1841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952720" cy="158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869000"/>
            <a:ext cx="2952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Информация для просветительской работы с население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нформационный материал о вкладе рода Тимашевых (приложение 6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укл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атериал к  экскурсии на тему «Роль Тимашевых в истории района, области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езентации «Роль дворянского рода Тимашевых в истории района, области, края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Фоторепортаж по материалам Ташлинского музея «Хроника рода Тимашевых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. Прогноз будущего усадьбы Тимашев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просы и встречи с жителями  села Ташла, показали, что существуют две точки зрения на будущее родового имения Тимашев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708280"/>
            <a:ext cx="3456000" cy="17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осстанов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ервоначального обл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усад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2708280"/>
            <a:ext cx="3313080" cy="17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ревращение родо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оместья в зону отды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31640" y="206064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2060640"/>
            <a:ext cx="863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од Тимашевых имеет большую историю и насчитывает около девяти поколений. Потомки основоположников сейчас распространились по всему миру. И многие так же известны, как и их пред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од Оренбургских Тимашевых состоял из пяти поколений,  все они честно исполняли свой воинский долг, и служили на благо своего государ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имашевы сыграли огромную роль в истории не только села Ташла, но и области, края, но многие их заслуги не были известны за пределами области, хотя они были очень значимы для  Ро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оведя сравнительный анализ усадьбы Тимашевых на протяжении двух столетий,  пришел   к выводу,  усадьба находится в запущенном состоянии.   Если сейчас не принять меры по ее восстановлению она будет утрачена безвозвратн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то такие Тимашевы и почему я начал работать над этой темой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526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я первая исследовательская работа была направлена на изучение Козловского лесопарка Тимашева, работая над ней, я узнал что Тимашевы были дворянами, полюбившими наши места за девственную красоту, они еще больше подчеркнули ее, создав  3 замечательных лесопарка: Козловский, Алмалинский, Ташлинск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машевы - старинный дворянский род, все они были военными, честно служили царю и Отечеству, представители 4 поколений избирались Губернскими предводителями дворянств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лагодаря 6 поколениям Тимашевых село Ташла было одним из превлекательнейшых имений края, культурные связи которого  поразительно многообраз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своей работе я хотел отразить роль рода Тимашевых в развитии района, области, края. Предположить каким имение Тимашевых в селе Ташла будет в будущем.  Возможно, результатом моих исследований заинтересуются жители района.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 чем я вижу актуальность своей работы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смотря на то, что Тимашевы сыграли важную роль в историю района, население о них знает немного, об их роли в истории развития нашего края незаслуженно забыли, родовое имение находится на грани разруш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 каждым годом «ниточки» связывающие нас с прошлым рвутся так как уходят из жизни старожилы, внуки и правнуки тех, кто был причастен к судьбе рода Тимашевы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тепенно мои знания становились все глубже. Этому способствовало: изучение статей СМИ; посещение Пушкинских праздников в селе Ташла; встреча с председателем сельсовета, учителем истории Ташлинской средней школы; переписка с потомком Тимашевых -  Святославом Анатольевичем Тимашевым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астое посещение Ташлы и проживание в ней моих родственников, делало мою работу более плодотворно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своей работе я хотел отразить роль рода Тимашевых в развитии района, области. Предположить каким имение Тимашевых в селе Ташла будет в будущем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вой вклад в историю сохранения памяти о роде Тимашевых я вижу в том, чтобы обратить внимание жителей Тюльганского райна  к  своему прошлому, показать роль  дворянского рода  в истории района, области, края через: написание исследовательской работы, доступной для чтения учащимся и любителям истории, проведение экскурсий на территории бывшего дворянского поместья, выпуск буклетов, календарей, написание статей, выступления на часах общения перед учащимися школ район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роблем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од Тимашевых внес огромный вклад в историю района, области, края, но об их заслугах незаслуженно забы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Ц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ыяснить какой вклад в историю района, области, России внес род Тимашев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Изучить историю рода Тимашевы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Составить генеалогическое древо р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Выяснить какую роль сыграли Тимашевы в истории райо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Исследовать усадьбу Тимашевых (определить состояние усадьбы в настоящее врем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Оформить собранную информацию и использовать ее для просветительской деятельн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Составить прогноз будущего усадьбы Тимашевых и ее перспектив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4508640"/>
            <a:ext cx="7848720" cy="180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 Накопление научного материа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изучение литературы и источник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знакомление с истори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и теорией вопрос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онсультация; на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3068640"/>
            <a:ext cx="6264360" cy="14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 Осмысление собранного материа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сравнение; анализ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бобщение; ана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1557360"/>
            <a:ext cx="4824360" cy="1511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. Проверка и уточнение фак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точнение сделанных выво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; обсуждение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Результаты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В ходе работы выяснилось, что род Тимашевых начинается с выходца из орды Тимэш мурзы (1528г.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го в нашей губернии проживало  пять поколений этого известного рода. Служили Тимашевы дьяками, воеводами, жильцами, на выборных должностях, участвовали приставами при посольств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ители четырех  поколений избирались губернскими предводителями дворянства. Благодаря деятельности шести поколений Тимашевых село Ташла было одним из привлекательнейших имений края, культурные связи которого  поразительно многообразны, ярки и замечатель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тория рода Тимашевых (приложение № 1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640" y="691920"/>
            <a:ext cx="7632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Изучив историю рода Тимашевых по различным литературным источникам и проанализировав ее,  было составлено генеалогическое древо дворянского рода Тимашевых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точнить древо, убедиться в правильности его составления помогла мне книга С.Сорокиной «Усадьба на фоне истории. Хроника дворянского рода Тимашевых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41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.Социологический опрос жителей села Ташла и поселка Тюльга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вопрос: Что вы знаете о дворянском роде Тимашевых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 вопрос: Что Тимашевы сделали для села Ташла, района в целом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 проведения социологического опроса, его анализа эти данные были оформлены в виде статистических показател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2421000"/>
          <a:ext cx="669780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21000"/>
                    <a:ext cx="669780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9:33:06Z</dcterms:created>
  <dc:creator>User</dc:creator>
  <dc:description/>
  <dc:language>en-US</dc:language>
  <cp:lastModifiedBy>user</cp:lastModifiedBy>
  <dcterms:modified xsi:type="dcterms:W3CDTF">2007-02-25T14:31:46Z</dcterms:modified>
  <cp:revision>39</cp:revision>
  <dc:subject/>
  <dc:title>Тимашевы и их роль в истории с. Ташла, района, области, России.</dc:title>
</cp:coreProperties>
</file>